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FC3A-6D88-4FAC-A241-E0C0DF2C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EC5C-AC82-4F71-9989-EBB45795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7A4E-6AD7-4C1D-9D1C-B035822B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E6AB-770A-4AD7-8D0E-E4FC893C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FD3F-C2CA-4277-A78C-2B3D3DDB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3FB-62FF-4EA5-839D-6DA5D346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CB80-1EC2-400D-8F67-A1814B0C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4E9D-3259-441C-B1BD-CC7F01CB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882A-56DE-40EB-A5B9-7BC5CB01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0AB4-10A9-45BE-9491-291B9798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C4A8-00F8-4E49-860B-6DA5B637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91C9-60B3-4D7A-98EE-05706C90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C40C-7DFA-4E2A-AF0B-707B8DA19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rchive.org/details/DuckandC1951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ruman’s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ost WWII “Cold W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nd of WWII-Cold War Begi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lta and Pots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ion of Germany and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 Curtain descends upon the Worl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nan’s “Long” Tele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man Doctrine turned Marshal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s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C-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lin Blockade and Air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’s Conversion to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R develops A-bo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Koreans invade South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Kore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.N. Police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merica has early set backs but pushes N. Koreans to Chinese Border (Yalu Ri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inese enter the war against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uman v. Macarthur-You’re F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8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arallel separates once again at the cost of about 50,000 American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Poli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y BOOOOOO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ft-Hartley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n as Anti-Union, reversed a number of protections established by FDR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Feder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Dixiecrat Support-Strom Thurmond (194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 Deal” very progressive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with Republican House/Se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Scare/M.A.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ve Richard Nix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. Joseph McCa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r H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AC and the Hollywood 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senber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mb She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"Duck and Cover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 War Rel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5:06:45Z</dcterms:created>
  <dc:creator>tbabcock</dc:creator>
  <dc:description/>
  <dc:language>en-US</dc:language>
  <cp:lastModifiedBy>tbabcock</cp:lastModifiedBy>
  <dcterms:modified xsi:type="dcterms:W3CDTF">2010-04-09T18:59:26Z</dcterms:modified>
  <cp:revision>16</cp:revision>
  <dc:subject/>
  <dc:title>Truman’s America</dc:title>
</cp:coreProperties>
</file>