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320-7D84-41A6-B59B-46DEFB79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179-C5EC-4BC9-8572-D0F3DE58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BA4-27BE-4FAB-BEE8-FAEB74C1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374-0D24-43ED-87D2-B3CCAF8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D51-A6C8-4233-BEA4-6CAF930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DD6-B4B6-41A9-9AC8-93EB872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BE8-A075-46C6-A4C4-4B95F7C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C2A-1912-4DEF-93AC-7363969E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5B1-2D89-4347-9781-0F9D63A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432-E111-4553-9B56-9E23DE2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81B-3D29-431F-B0DA-FA06359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499-D9B9-45D0-A9A3-6466D69F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9BB-55FA-44FB-9925-AA07F2FE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DuckandC195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uman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WWII “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WWII-Cold War Begi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and 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Germany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Curtain descends upo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an’s “Long” 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 Doctrine turned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Blockade and Air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’s Conversion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develops A-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ns invade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N. Polic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 has early set backs but pushes N. Koreans to Chinese Border (Yalu R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nese enter the war against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uman v. Macarthur-You’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rallel separates once again at the cost of about 50,000 American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OO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t-Hartl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nti-Union, reversed a number of protections established by FDR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ixiecrat Support-Strom Thurmon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al” very progressiv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Republican House/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Scare/M.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.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 H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C and the Hollywood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senbe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Duck and Cove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Re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06:45Z</dcterms:created>
  <dc:creator>tbabcock</dc:creator>
  <dc:description/>
  <dc:language>en-US</dc:language>
  <cp:lastModifiedBy>tbabcock</cp:lastModifiedBy>
  <dcterms:modified xsi:type="dcterms:W3CDTF">2010-04-09T18:59:26Z</dcterms:modified>
  <cp:revision>16</cp:revision>
  <dc:subject/>
  <dc:title>Truman’s America</dc:title>
</cp:coreProperties>
</file>