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4798-3FFE-41AD-8BE2-4849109EE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3911-3220-49B3-BD12-5120A74F3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7381-D1F3-4191-B21D-18416A371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9EF9-FC1F-42C9-9CBB-FAF53A420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E063-5BE2-4775-801F-FCC2AEE3F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48D7-9E81-4288-AB43-DD16E0C5F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1333-3359-43C2-9F40-2B7331702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B5EC-A4C2-4FFB-B4D8-8FA8384B1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72C5-0EB8-45D6-8B97-7177C7855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A29B-9F1D-4ACB-9C8A-EA3ECCAD7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1677-6001-4015-B192-1D33EDD25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8552-E1F8-4F21-9F46-9793D7090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D8BD-DCDF-4926-9792-0C7E8CEA4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04F0-8C1D-48C1-9932-BA9116D04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A49E-2CBC-483C-A355-1EBD62990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20FB-6B0C-4D2D-B591-9F9D71E82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1853-4FA8-4422-94E4-626A27BD3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5A5B-AEAA-4FAF-A0C4-916BE32D9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E8B4-86B5-4EEA-86F5-ED8F0E71A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BC75-E84E-41E9-90CE-1E5350C5B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4F8D-06E9-406A-BB4C-65C9D5EC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0D8-4761-4DE7-9045-52E676AC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D6C-C171-4887-A976-4EF5A103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AA7-A664-48F8-8A4B-26926FED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5F4-F366-4870-A1D6-5DE56B2B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5CE-B298-44A7-AE1F-E0C3D235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35F-8DEF-4800-9EB2-563F4B09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315-8490-4B97-AD31-CD6BD4B0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ABC-FD2B-4EA4-B256-8E740FEE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912-BA4A-49ED-8142-7E2DDBC6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857-2264-4315-9E8C-6721299C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B57-9127-40DF-B8AF-3576BDDA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3FA8-7C91-43BC-A10B-ACE6054C5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he War to end all Wars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and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Seventeen years older than your last entry…and the United States has just entered the Great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ecember of 1917 and you have just received a letter from a loved one serving in WWI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response to that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daddy"/>
          <p:cNvPicPr/>
          <p:nvPr/>
        </p:nvPicPr>
        <p:blipFill>
          <a:blip r:embed="rId1"/>
          <a:stretch/>
        </p:blipFill>
        <p:spPr>
          <a:xfrm>
            <a:off x="914400" y="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Liberties under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 immigrants att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y Lettuce v. Freedom F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nk v. United States (19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gerous Prece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ionage and Sedition A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gene V. Debs in jail…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gene v. De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Debs_Canton"/>
          <p:cNvPicPr/>
          <p:nvPr/>
        </p:nvPicPr>
        <p:blipFill>
          <a:blip r:embed="rId1"/>
          <a:stretch/>
        </p:blipFill>
        <p:spPr>
          <a:xfrm>
            <a:off x="1523880" y="1395360"/>
            <a:ext cx="60199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Service Act of 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 Million register, 3 million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,000 African Americans in segregate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supplies as quickly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deferment for work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dustries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y Bernard Bar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ss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lroad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l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tee of Public Information-PR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ty loans/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us_poster_l"/>
          <p:cNvPicPr/>
          <p:nvPr/>
        </p:nvPicPr>
        <p:blipFill>
          <a:blip r:embed="rId1"/>
          <a:stretch/>
        </p:blipFill>
        <p:spPr>
          <a:xfrm>
            <a:off x="1752480" y="609480"/>
            <a:ext cx="4800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front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onference of 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dministration-encourage public to con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War Labor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unions not to st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rly wage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work hours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ormous rise in some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Dup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s boo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income 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saw more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ed frequently to help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ctive in peace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th Amendment 19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demic F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ls 30 million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sassination of Austria-Hungary Archduke Franz Ferdinand 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rbian Nationalist-”The Black Hand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Crowd of colorful figures making their way through one of three gates, the one to Chicago  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 Turns the 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not WW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17-Year U.S. enters, Russia pulls 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lshevik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rmany can concentrate on one fr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o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ral S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vy guard of destroyers protects ships across Atlan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 North Sea, corner U-Boats into min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-Boat attacks down by end of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’s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ughboys aid ailing al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ts are white and cleaned with dough or c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y 50 miles from Paris when U.S. 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ediate impact-Fresh to the f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mi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l of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Million 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 loses about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,000 to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5,000 to disease and 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Million wo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illion refug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38 Billions doll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isitce comes on the eleventh hour of the eleventh month in 19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Term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le Entente (Allies)-Great Britain, France, Russia and Ser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le Alliance-Germany, A-H and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owers-Germany, A-H and Ottom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Milit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Enters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rica remains neut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ded loyal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immigrants, many from Germ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Alliances to All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kept us out of War…..SYKE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estricted Submarine Warf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king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usitan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ss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a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merican vessels but Americans o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s claim that they were not just passenger 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Untersee Boats-U boats in response to British Block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 of 1916-Wilson defeats Hug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ttp://www.titanicandco.com/lusitania/lusitania3.jpg"/>
          <p:cNvPicPr/>
          <p:nvPr/>
        </p:nvPicPr>
        <p:blipFill>
          <a:blip r:embed="rId1"/>
          <a:stretch/>
        </p:blipFill>
        <p:spPr>
          <a:xfrm>
            <a:off x="63360" y="-136440"/>
            <a:ext cx="89568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mmerman Tele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graph from Germany to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merica enters war, side with Central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us broker a deal to get Japan involved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xico would receive lost lands such as Arizona and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epted, plot revea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 Outraged, vote for war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anette Rankin votes no for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emale congres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zimmermanote"/>
          <p:cNvPicPr/>
          <p:nvPr/>
        </p:nvPicPr>
        <p:blipFill>
          <a:blip r:embed="rId1"/>
          <a:stretch/>
        </p:blipFill>
        <p:spPr>
          <a:xfrm>
            <a:off x="0" y="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286000" y="31050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War One P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286000" y="41148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firstworldwar.com/posters/usa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9:26:27Z</dcterms:created>
  <dc:creator>tbabcock</dc:creator>
  <dc:description/>
  <dc:language>en-US</dc:language>
  <cp:lastModifiedBy>tbabcock</cp:lastModifiedBy>
  <dcterms:modified xsi:type="dcterms:W3CDTF">2010-03-24T15:10:09Z</dcterms:modified>
  <cp:revision>34</cp:revision>
  <dc:subject/>
  <dc:title>“The War to end all Wars”</dc:title>
</cp:coreProperties>
</file>