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FE6-81D5-459B-8445-09373CB6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76F4-0041-4C81-B7DA-1B957B8C0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C44-FFB8-4A66-8C1A-A50497EF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BF57-3A06-4F26-9F04-08902500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729-B500-466D-9BDB-A9483412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7794-290B-4E0D-AF0C-F0BDF1E5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36F8-C6D3-4406-9903-1ABB2B85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5175-8D38-41FB-84C2-D50A22C5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755-8E78-4B56-94BE-07D47185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22A-A990-430C-91A1-F4DDF48F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A68-B397-4021-830F-00589C4E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3845-F9B8-453D-A693-8CB36E10B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F75C-A914-408C-A69D-CCD5D290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9E3-9D47-46A6-A8CA-3C4D2EF6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E4D-8D5B-45D8-9188-0A76F18F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BFE7-89DF-4BFE-9935-CDCA5BB5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C47-551B-4311-908E-2E456821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2DFE-2CB0-46AB-B45A-4A9CF353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31B-9F42-45AB-9B90-6DB8E17A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D80-E84E-49DE-A99C-6FA421E3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A8E-4598-4CD2-9FCE-7CFAB384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BE7-1430-4473-8F7A-46243F6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862-0ED2-47B6-8A13-B3DD4F7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7B7-B135-4132-BC2D-FA6B196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69B-89A8-4F9B-857D-6A850A9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336-7FD8-4C37-B01D-EE9CF69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59A-4077-4AE6-A250-3B66E8A3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C33-D260-45BC-B794-B7AE9E8A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FBD-1837-4C88-ABFC-B94D5923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7DE-EBBF-4472-9236-A28E786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BF3-6931-4EBE-8893-870B771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1C2-4043-4119-A981-2908144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01E-3BBD-40E1-9589-2FDF436C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e War to end all War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nd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Seventeen years older than your last entry…and the United States has just entered the Great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cember of 1917 and you have just received a letter from a loved one serving in WW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sponse to that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addy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immigrants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 Lettuce v. Freedom F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nk v. United States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Prece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ionage and Sedition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in jail…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gene v. De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bs_Canton"/>
          <p:cNvPicPr/>
          <p:nvPr/>
        </p:nvPicPr>
        <p:blipFill>
          <a:blip r:embed="rId1"/>
          <a:stretch/>
        </p:blipFill>
        <p:spPr>
          <a:xfrm>
            <a:off x="1523880" y="1395360"/>
            <a:ext cx="6019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Act of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llion register, 3 million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 African Americans in segregate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upplies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deferment for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Bernard Ba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s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l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of Public Information-PR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y loans/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s_poster_l"/>
          <p:cNvPicPr/>
          <p:nvPr/>
        </p:nvPicPr>
        <p:blipFill>
          <a:blip r:embed="rId1"/>
          <a:stretch/>
        </p:blipFill>
        <p:spPr>
          <a:xfrm>
            <a:off x="1752480" y="60948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nference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ministration-encourage public to con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unions not to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ly wage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ork hour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rmous rise in some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s b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incom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saw mor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ed frequently to help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ctive in peac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th Amendment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30 million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assination of Austria-Hungary Archduke Franz Ferdinand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rbian Nationalist-”The Black Han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owd of colorful figures making their way through one of three gates, the one to Chicago  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7-Year U.S. enters, Russia pulls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shevik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can concentrate on one 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o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guard of destroyers protects ships across Atl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 North Sea, corner U-Boats into min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Boat attacks down by end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’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ghboys aid ailing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ts are white and cleaned with dough or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 50 miles from Paris when U.S. 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act-Fresh to the f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l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illion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 loses about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,000 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000 to disease and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Million w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refug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38 Billions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isitce comes on the eleventh hour of the eleventh month in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(Allies)-Great Britain, France, Russ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Alliance-Germany, A-H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ers-Germany, A-H and 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ilit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 remains neu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ed loya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mmigrants, many from 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Alliances to Al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ept us out of War…..SYK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tricted Submarine War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k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ita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ss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merican vessels but American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claim that they were not just passeng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ntersee Boats-U boats in response to British Bloc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16-Wilson defeats Hug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titanicandco.com/lusitania/lusitania3.jpg"/>
          <p:cNvPicPr/>
          <p:nvPr/>
        </p:nvPicPr>
        <p:blipFill>
          <a:blip r:embed="rId1"/>
          <a:stretch/>
        </p:blipFill>
        <p:spPr>
          <a:xfrm>
            <a:off x="63360" y="-136440"/>
            <a:ext cx="89568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mmerman 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graph from Germany to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erica enters war, side with 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broker a deal to get Japan involved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xico would receive lost lands such as Arizona and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ed, plot rev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Outraged, vote for war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ette Rankin votes no fo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emale congres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zimmermanote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286000" y="31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One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41148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rstworldwar.com/posters/us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9:26:27Z</dcterms:created>
  <dc:creator>tbabcock</dc:creator>
  <dc:description/>
  <dc:language>en-US</dc:language>
  <cp:lastModifiedBy>tbabcock</cp:lastModifiedBy>
  <dcterms:modified xsi:type="dcterms:W3CDTF">2010-03-24T15:10:09Z</dcterms:modified>
  <cp:revision>34</cp:revision>
  <dc:subject/>
  <dc:title>“The War to end all Wars”</dc:title>
</cp:coreProperties>
</file>