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1410-E893-4AD9-A854-8AF070F15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E535-D6D8-4560-909E-DA1A9ED45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BB42-67A8-4908-8F8F-E045A1882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5D06-FD50-44AA-95EE-9E94833FE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5F82-EBD4-484A-BB49-E8880F9F8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BAF0-B03A-46AD-A9B0-B8D3D65DB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05C0-2228-4895-A693-71EB3FF8C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0691-5B6D-44AF-A2B4-801DBFC9C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2C04-879C-4E91-8244-4CD073CEB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3120-30E3-4E01-8541-5B5B32922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C98B-C253-4D6A-9A88-BE68AFA58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6DF7-2704-409D-9ADA-FEDFFDAD0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C3B0-2294-4D2C-9421-89B465DB5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DA2F-E060-4670-BE2C-635F113A3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C057-87C2-4D23-8F76-7CC9E6A19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2B76-0EF4-40A0-8830-80C2E6A78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4548-56C9-4D47-AE80-F53F3A42A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4F67-39D8-4E71-A08F-D64CC5B22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6974-9AE3-4DE6-B19E-753144521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1B01-4A1E-444D-8BEC-88C0C7BFF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8D9C-7786-48C3-BD3E-E8EE0A64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996-DB57-41C8-87CF-03845F58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5C0-EB56-4E7C-AD02-5D2D838A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FD9-8555-47C3-9201-077BF958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06F-70BA-4514-A4E6-A4A83E4A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46A-CB39-4426-A151-29EB3ED6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6DEA-C321-4A63-9AE5-64DE7164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EA73-C6DD-4A02-9902-66EB4324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80F8-0596-4A52-9BE3-C0C3DD23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B1D-19C8-47D1-B56D-B0610936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75C-DFF7-4706-AD52-F0C0C62B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29E-5650-4044-A63D-A7DBB8EB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C227-58FA-4547-B9E4-5525DED53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he War to end all Wars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and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Seventeen years older than your last entry…and the United States has just entered the Great W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ecember of 1917 and you have just received a letter from a loved one serving in WWI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response to that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daddy"/>
          <p:cNvPicPr/>
          <p:nvPr/>
        </p:nvPicPr>
        <p:blipFill>
          <a:blip r:embed="rId1"/>
          <a:stretch/>
        </p:blipFill>
        <p:spPr>
          <a:xfrm>
            <a:off x="914400" y="0"/>
            <a:ext cx="73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Liberties under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 immigrants att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y Lettuce v. Freedom F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nk v. United States (19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gerous Prece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ionage and Sedition A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gene V. Debs in jail…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gene v. De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Debs_Canton"/>
          <p:cNvPicPr/>
          <p:nvPr/>
        </p:nvPicPr>
        <p:blipFill>
          <a:blip r:embed="rId1"/>
          <a:stretch/>
        </p:blipFill>
        <p:spPr>
          <a:xfrm>
            <a:off x="1523880" y="1395360"/>
            <a:ext cx="60199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b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ve Service Act of 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 Million register, 3 million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,000 African Americans in segregate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supplies as quickly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deferment for work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Industries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by Bernard Bar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ss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lroad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el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tee of Public Information-PR c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ty loans/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us_poster_l"/>
          <p:cNvPicPr/>
          <p:nvPr/>
        </p:nvPicPr>
        <p:blipFill>
          <a:blip r:embed="rId1"/>
          <a:stretch/>
        </p:blipFill>
        <p:spPr>
          <a:xfrm>
            <a:off x="1752480" y="609480"/>
            <a:ext cx="4800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front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onference of 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Administration-encourage public to con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War Labor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unions not to st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rly wage incr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work hours incr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ormous rise in some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Dup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ons boo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income 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saw more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ed frequently to help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ctive in peace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th Amendment 19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demic F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lls 30 million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ediate C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ssassination of Austria-Hungary Archduke Franz Ferdinand 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rbian Nationalist-”The Black Hand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Crowd of colorful figures making their way through one of three gates, the one to Chicago  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 Turns the 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not WW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17-Year U.S. enters, Russia pulls 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lshevik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rmany can concentrate on one fr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o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ral S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vy guard of destroyers protects ships across Atlan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 North Sea, corner U-Boats into min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-Boat attacks down by end of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’s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ughboys aid ailing al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ts are white and cleaned with dough or c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rmany 50 miles from Paris when U.S. 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ediate impact-Fresh to the f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mis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l of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Million d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 loses about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,000 to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5,000 to disease and inf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Million wou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illion refug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38 Billions doll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isitce comes on the eleventh hour of the eleventh month in 19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Term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le Entente (Allies)-Great Britain, France, Russia and Ser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le Alliance-Germany, A-H and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owers-Germany, A-H and Ottoman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Milit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.S. Enters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erica remains neut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ided loyal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immigrants, many from Germ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Alliances to All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kept us out of War…..SYKE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restricted Submarine Warf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king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usitan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ss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a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merican vessels but Americans on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s claim that they were not just passenger 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Untersee Boats-U boats in response to British Block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ion of 1916-Wilson defeats Hug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ttp://www.titanicandco.com/lusitania/lusitania3.jpg"/>
          <p:cNvPicPr/>
          <p:nvPr/>
        </p:nvPicPr>
        <p:blipFill>
          <a:blip r:embed="rId1"/>
          <a:stretch/>
        </p:blipFill>
        <p:spPr>
          <a:xfrm>
            <a:off x="63360" y="-136440"/>
            <a:ext cx="89568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mmerman Tele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graph from Germany to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merica enters war, side with Central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us broker a deal to get Japan involved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xico would receive lost lands such as Arizona and 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epted, plot revea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 Outraged, vote for war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anette Rankin votes no for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female congres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zimmermanote"/>
          <p:cNvPicPr/>
          <p:nvPr/>
        </p:nvPicPr>
        <p:blipFill>
          <a:blip r:embed="rId1"/>
          <a:stretch/>
        </p:blipFill>
        <p:spPr>
          <a:xfrm>
            <a:off x="0" y="0"/>
            <a:ext cx="8915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286000" y="31050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War One Po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ag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286000" y="41148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firstworldwar.com/posters/usa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9:26:27Z</dcterms:created>
  <dc:creator>tbabcock</dc:creator>
  <dc:description/>
  <dc:language>en-US</dc:language>
  <cp:lastModifiedBy>tbabcock</cp:lastModifiedBy>
  <dcterms:modified xsi:type="dcterms:W3CDTF">2010-03-24T15:10:09Z</dcterms:modified>
  <cp:revision>34</cp:revision>
  <dc:subject/>
  <dc:title>“The War to end all Wars”</dc:title>
</cp:coreProperties>
</file>