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8F23-8651-4470-98B7-7ED28AA78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963-9B2F-49D9-B8ED-D41ECD39E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9710-F726-4C83-A15A-D222C772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8DE1-764D-44FA-B608-581DE9FB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E2FE-8BE7-4378-B41B-DCA7F63B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65F8-F08F-4C7A-8EF0-614A5A04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4CA5-E92B-4D78-A17F-4D8F7714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56C0-9CEF-4459-8FD9-3EE49583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EBA1-EFA7-4435-B3EA-D65CE989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536-9603-42FD-976D-8D61A805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5B6-2BC4-4C34-AFBC-2EB9C96C2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A32E-733E-49B8-9519-923381ED6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D5D-6E84-4774-9D48-921A0F3E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666-4007-46B5-AC25-955F2C6C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BB3-F53C-4F54-8AA3-23DDB09F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4607-02CE-43AE-B6F9-F6E6A730B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D8A7-6D44-412C-B150-9C3D5E1E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B900-1625-4DB4-8FD9-040A431F0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8395-84CB-4145-BE40-309FF563F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BD81-7691-46C1-A473-47F5146A8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738-5407-4D95-B0F6-8274A083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43B-C17A-469C-8A11-B23053A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98A-00E5-48F4-9C54-AB5C615D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A5D-88CC-4518-96BC-67E61919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B45-D5E0-4AAD-912A-92E12717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EE0-D95D-49B3-B7D8-9F903064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E6B-77BD-42A9-8689-060BBFA0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574-738A-4250-B515-EE999622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938-09B3-4D34-A3B6-4F18CED2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365-0C7F-44B9-ACEC-6926C48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2C8-C420-4A0B-9530-3A033D6F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1B1-4CAB-48DC-907E-41DC655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D0C7-B99A-47F3-BF37-AA587CED4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e War to end all Wars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nd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Seventeen years older than your last entry…and the United States has just entered the Great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cember of 1917 and you have just received a letter from a loved one serving in WW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sponse to that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addy"/>
          <p:cNvPicPr/>
          <p:nvPr/>
        </p:nvPicPr>
        <p:blipFill>
          <a:blip r:embed="rId1"/>
          <a:stretch/>
        </p:blipFill>
        <p:spPr>
          <a:xfrm>
            <a:off x="91440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Liberties under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immigrants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 Lettuce v. Freedom F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nk v. United States (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Prece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ionage and Sedition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in jail…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gene v. De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ebs_Canton"/>
          <p:cNvPicPr/>
          <p:nvPr/>
        </p:nvPicPr>
        <p:blipFill>
          <a:blip r:embed="rId1"/>
          <a:stretch/>
        </p:blipFill>
        <p:spPr>
          <a:xfrm>
            <a:off x="1523880" y="1395360"/>
            <a:ext cx="6019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Act of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llion register, 3 million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000 African Americans in segregate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supplies as quick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deferment for wo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dustrie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Bernard Bar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s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l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of Public Information-PR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y loans/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us_poster_l"/>
          <p:cNvPicPr/>
          <p:nvPr/>
        </p:nvPicPr>
        <p:blipFill>
          <a:blip r:embed="rId1"/>
          <a:stretch/>
        </p:blipFill>
        <p:spPr>
          <a:xfrm>
            <a:off x="1752480" y="60948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onference of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dministration-encourage public to con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War Labo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unions not to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ly wage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ork hour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rmous rise in some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Du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s boo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income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saw more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ed frequently to help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ctive in peace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th Amendment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s 30 million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assination of Austria-Hungary Archduke Franz Ferdinand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rbian Nationalist-”The Black Han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owd of colorful figures making their way through one of three gates, the one to Chicago  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W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17-Year U.S. enters, Russia pulls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shevik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 can concentrate on one 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o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guard of destroyers protects ships across Atl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 North Sea, corner U-Boats into min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Boat attacks down by end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’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ghboys aid ailing 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ts are white and cleaned with dough or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 50 miles from Paris when U.S. 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 impact-Fresh to the f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l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Million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 loses about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,000 to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,000 to disease and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Million w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llion refug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38 Billions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isitce comes on the eleventh hour of the eleventh month in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Entente (Allies)-Great Britain, France, Russia and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Alliance-Germany, A-H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ers-Germany, A-H and 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Milit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Enters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 remains neu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ded loya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mmigrants, many from Ger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Alliances to Al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kept us out of War…..SYK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stricted Submarine War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kin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sitan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ss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merican vessels but American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claim that they were not just passeng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ntersee Boats-U boats in response to British Bloc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916-Wilson defeats Hug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www.titanicandco.com/lusitania/lusitania3.jpg"/>
          <p:cNvPicPr/>
          <p:nvPr/>
        </p:nvPicPr>
        <p:blipFill>
          <a:blip r:embed="rId1"/>
          <a:stretch/>
        </p:blipFill>
        <p:spPr>
          <a:xfrm>
            <a:off x="63360" y="-136440"/>
            <a:ext cx="89568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mmerman 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graph from Germany to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erica enters war, side with Cent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broker a deal to get Japan involved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xico would receive lost lands such as Arizona and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ed, plot rev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 Outraged, vote for war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ette Rankin votes no fo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emale congres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zimmermanote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286000" y="3105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One 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0" y="41148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irstworldwar.com/posters/us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9:26:27Z</dcterms:created>
  <dc:creator>tbabcock</dc:creator>
  <dc:description/>
  <dc:language>en-US</dc:language>
  <cp:lastModifiedBy>tbabcock</cp:lastModifiedBy>
  <dcterms:modified xsi:type="dcterms:W3CDTF">2010-03-24T15:10:09Z</dcterms:modified>
  <cp:revision>34</cp:revision>
  <dc:subject/>
  <dc:title>“The War to end all Wars”</dc:title>
</cp:coreProperties>
</file>