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0BC-3CB1-4B23-A484-FE608E5D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CA5-CC2D-46F7-B810-0B018555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D0D-4DD2-4923-A1EF-0BF0ACA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366-8316-4E9D-9CCB-F5436541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8F5-9DA4-4D4D-8EA4-A1BA9F9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ADD-7FAA-45C5-B008-C766F04C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F57-C6D6-4C91-841B-35D863BD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BB2-E46E-486B-A5BC-207E76B9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33F-513D-451F-A94C-6323A82F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814-38C5-4088-91B2-884036F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F15-28E7-479C-9A4B-94D2588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2D1-E0AD-4AC4-84DF-E830CF9C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927C-E481-42EA-A5FE-50B6842B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ern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, Wild Wes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“Cultures Clash” on the Western Front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mining and the silver/gold issue Impact America? (Especially Pol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Federal Government have in fronti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verage American Experience in the W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ies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mmitted atro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Big Horn (Cu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nded Kne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tribes as leg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d out ownership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families 16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5 yrs-Behaved-get citizenship (1924 all American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is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fes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-Huge finds (ex. Comstock L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tle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Act-160 Acres, live on, improve (5yrs) and pay $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 plight leads to political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v.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n the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’s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ist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7:11Z</dcterms:created>
  <dc:creator>tbabcock</dc:creator>
  <dc:description/>
  <dc:language>en-US</dc:language>
  <cp:lastModifiedBy>tbabcock</cp:lastModifiedBy>
  <dcterms:modified xsi:type="dcterms:W3CDTF">2010-01-29T12:37:39Z</dcterms:modified>
  <cp:revision>6</cp:revision>
  <dc:subject/>
  <dc:title>Western Expansion</dc:title>
</cp:coreProperties>
</file>