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0927-7CB8-4D1A-8F1F-641A9DB8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54E9-70E8-412D-A948-5715C8EE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7151-91FA-4851-8965-27544E04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130-3F96-4AC6-8E5A-0C219232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3E35-92D0-49AB-8806-DEE1FAC1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9EA-D997-40F4-897E-B3B597B1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B9E-1D0F-4E49-B54E-4A074B64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1406-83F0-47C4-AA9F-23490954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449A-713D-4A1E-97C1-9B73960F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EBC2-74E2-4001-A79E-165E7A7A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DD57-C9E6-439D-98EA-36E35A3C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553B-61E4-40CE-9A10-EB8C0165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5325-6C09-4AA1-B3DE-037B5BED9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stern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ild, Wild Wes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Fundamenta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“Cultures Clash” on the Western Fronti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mining and the silver/gold issue Impact America? (Especially Polit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ole did the Federal Government have in frontier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Average American Experience in the W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h of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uries of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ides committed atro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Big Horn (Cus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nded Knee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wes Several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wes Severalty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tribes as legal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ed out ownership of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ve families 160 ac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5 yrs-Behaved-get citizenship (1924 all American Citiz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lisl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Profess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ng-Huge finds (ex. Comstock L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tle Dr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l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ntier Fa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stead Act-160 Acres, live on, improve (5yrs) and pay $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rmers plight leads to political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ams v.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on the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’s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ist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2:57:11Z</dcterms:created>
  <dc:creator>tbabcock</dc:creator>
  <dc:description/>
  <dc:language>en-US</dc:language>
  <cp:lastModifiedBy>tbabcock</cp:lastModifiedBy>
  <dcterms:modified xsi:type="dcterms:W3CDTF">2010-01-29T12:37:39Z</dcterms:modified>
  <cp:revision>6</cp:revision>
  <dc:subject/>
  <dc:title>Western Expansion</dc:title>
</cp:coreProperties>
</file>