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752-5625-4E88-BEF2-58333910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A33-1B95-4B39-A45D-83F712C6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8E93-007C-43BA-9D1C-F03977F6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DEE-19BE-483E-97B5-3DC994C7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AA4-EE56-479A-96E7-5C8BE281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8082-11B6-4F05-9306-4A8031A1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2E3-9662-42F9-AA1C-54DFF9B1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890-E59F-4954-9D34-6B30E52E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6CA-FC8E-456B-9048-F39BBEBF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862-C0EF-43B8-9E3E-6C9C062C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2B8-0ACD-4328-ADAC-68EE02FA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EDC-673C-4599-84E5-9603553D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A274-0015-4781-B45F-C3365CE13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stern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ild, Wild Wes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Fundament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“Cultures Clash” on the Western Fronti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mining and the silver/gold issue Impact America? (Especially Polit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ole did the Federal Government have in frontier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Average American Experience in the W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h of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uries of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ides committed atro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Big Horn (Cus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nded Knee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wes Several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wes Severalt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tribes as legal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d out ownership of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ve families 160 ac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5 yrs-Behaved-get citizenship (1924 all American Citiz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isl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Profess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ng-Huge finds (ex. Comstock L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tle Dr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tier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stead Act-160 Acres, live on, improve (5yrs) and pay $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mers plight leads to political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s v.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on the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’s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ist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2:57:11Z</dcterms:created>
  <dc:creator>tbabcock</dc:creator>
  <dc:description/>
  <dc:language>en-US</dc:language>
  <cp:lastModifiedBy>tbabcock</cp:lastModifiedBy>
  <dcterms:modified xsi:type="dcterms:W3CDTF">2010-01-29T12:37:39Z</dcterms:modified>
  <cp:revision>6</cp:revision>
  <dc:subject/>
  <dc:title>Western Expansion</dc:title>
</cp:coreProperties>
</file>