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52C9-D95F-40FE-90C7-900A8E09F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2076-C8A7-4618-AAF6-8C026128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3C6A-22C5-4DAF-B09B-73E38CDF6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B58F-9946-42C8-A35E-9FCD6E043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BF13-9E88-4888-A0AC-4EF8D08F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190E-40A4-41B9-8FF1-62058353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302E-4ABE-4CF5-8323-FC475F1A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27D1-9EDE-4013-B112-4A1870EA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A4EF-E322-4FCB-9095-866B9DAC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F7C8-B2EB-402E-8896-CFDFD97B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4E6A-5B30-4F5A-8423-480C6902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8563-5B1D-42B8-80F7-BA36C08D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68AB-FC5F-4F15-BF7B-08605D8AB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stern Expa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ild, Wild West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 Fundamental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“Cultures Clash” on the Western Fronti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mining and the silver/gold issue Impact America? (Especially Politic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role did the Federal Government have in frontier lif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Average American Experience in the W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h of Cul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uries of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sides committed atroc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Big Horn (Cus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nded Knee</a:t>
            </a:r>
            <a:br>
              <a:rPr sz="32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wes Severalty 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wes Severalty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olved tribes as legal e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ped out ownership of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ve families 160 ac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5 yrs-Behaved-get citizenship (1924 all American Citize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mi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lisle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Profess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ng-Huge finds (ex. Comstock L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tle Dr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l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ntier Far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stead Act-160 Acres, live on, improve (5yrs) and pay $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rmers plight leads to political 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eams v. Re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on the pl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mer’s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pulist Pa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12:57:11Z</dcterms:created>
  <dc:creator>tbabcock</dc:creator>
  <dc:description/>
  <dc:language>en-US</dc:language>
  <cp:lastModifiedBy>tbabcock</cp:lastModifiedBy>
  <dcterms:modified xsi:type="dcterms:W3CDTF">2010-01-29T12:37:39Z</dcterms:modified>
  <cp:revision>6</cp:revision>
  <dc:subject/>
  <dc:title>Western Expansion</dc:title>
</cp:coreProperties>
</file>