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1FF-D61B-493C-90A2-715FC937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E564-5A7F-4207-90A1-6C341CE5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873E-D406-4830-A9AA-9CE53CCC0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57BB-172A-4899-9F3D-E22C4C63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AFBF-22FA-455A-B84D-2760BCB3D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5FF5-AF70-49A2-A1E9-261BD739A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2D48-6507-4185-B6F9-47B722364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30F8-25D5-44FF-BA03-7A3B8799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1AA5-A1CF-4586-B849-956244AE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6EA4-ADBA-4646-B9C0-CFFD6BF3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7663-4121-4444-A4FF-62C6E2B8E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8F92-0677-4777-92C1-B8D445193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8CDB-FA98-4567-8638-DA6A77890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B26D-1845-4FD2-9CF8-325FE02B9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995-CB9B-459B-B21F-BC9AC3EEA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CONTRAST WITH THE LOWER LEFT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10F8-18C8-47E3-9C62-A7C9170F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878D-AC6E-4BDD-9CDC-E9A3F3770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B070-DFD1-4161-A489-E42E1C594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 helped Americans imagine themselves part of a larger world but also as doing good works in the messy world of imperialism, helping to justify imperial expan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liness is the scale of Civil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on the t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49A2-C1C8-488C-94BC-653A2E1BD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 helped Americans imagine themselves part of a larger world but also as doing good works in the messy world of imperialism, helping to justify imperial expansion.  ASK WHY THIS AD WOULD APPEAR IN LADIES HOME JOURNAL, 1899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:  Name, narrative,slogan,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use of Sapollo is a distinguishing mark of enlightened people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98D2-3670-46DD-8EBC-6BCE59E2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BOTTOM CAPTION: FROM JOHN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9AC6-ADEF-494E-A0C9-F083748F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r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1F42-1340-4567-940F-9679BF40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C0E-D20E-4641-A25E-06B70A2A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490A-788A-4C42-B2E6-CE8E5ED7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BA14-DFA8-4E8A-AB88-A23BE0A14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0075-3D3A-45EC-8543-3579F184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0861-D301-4238-B613-540706EDD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BAA3-24CE-411A-A38C-2E227D7C8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7E2-CCFE-49DD-8AF5-E3701409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BAC-1CF4-4F32-86B2-5C53B45C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ED0-168B-4081-8008-BAA31F7B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B4B-CE75-457B-813D-ED51EE48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550-807D-410A-99BA-230D085D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B5B-5F54-4675-8482-6FE4035D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801-D961-4FE7-AD5C-10B86B0C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5D3-37D1-4D06-979B-CC985ACA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4F5-1675-49AA-AE79-88388996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BD1-A699-4E2C-A98D-F32875F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3A5-63D6-49EE-BF77-19E28E69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24C-ACC2-4335-9E09-78C3B215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8146-FB06-42C9-8A87-55167ADE5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 Empi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owned Sugar companies ¾ of Island’s 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igrant wor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Kinley Tariff 1890 was going to get rid of Duty-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awaii"/>
          <p:cNvPicPr/>
          <p:nvPr/>
        </p:nvPicPr>
        <p:blipFill>
          <a:blip r:embed="rId1"/>
          <a:stretch/>
        </p:blipFill>
        <p:spPr>
          <a:xfrm>
            <a:off x="5029200" y="167652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-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dies-white owners-make voting wealthy land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Liliuokalani-”Hawaii for Hawaiia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grown Marin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back to throne-Set up as a Repub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8-American Territory (1959 Hawaii a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l  Harbor Naval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to the Spanish America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4-Buy Cub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8-1870-Rebellions-Americans empathized with Cub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6-Cuba abolishes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inv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5-2nd War for Independence-Jose Marti-We support, just not militar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to Span-Am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crushe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ed 300,000 Cubans into concentration 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from disease/h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no military action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PulitzerHearstWarYellowKids"/>
          <p:cNvPicPr/>
          <p:nvPr/>
        </p:nvPicPr>
        <p:blipFill>
          <a:blip r:embed="rId1"/>
          <a:stretch/>
        </p:blipFill>
        <p:spPr>
          <a:xfrm>
            <a:off x="395280" y="590400"/>
            <a:ext cx="83534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furnish the picture and I’ll furnish the wa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ome letter-leaked to press, called President McKinle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Maine explodes off the coas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 Marine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tries to stay ou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t Secretary of Navy will have it no other way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ine"/>
          <p:cNvPicPr/>
          <p:nvPr/>
        </p:nvPicPr>
        <p:blipFill>
          <a:blip r:embed="rId1"/>
          <a:stretch/>
        </p:blipFill>
        <p:spPr>
          <a:xfrm>
            <a:off x="1219320" y="762120"/>
            <a:ext cx="6019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Ma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with two fro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dore Dewey destroyed fleet invades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-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ral Samp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 prepared army-125,000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Americans and Roughriders inv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-San Juan 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-”The He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lendid Little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-F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pines-sold $23 million, annexed aft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m and Puerto Rico become US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er and Platt Amend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ot establish permanent control over 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 gave right for Americans to intervene in Cuba’s affairs “to protect life liberty and proper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What should “America” look lik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sevelt Corollary-“Big Stick Poli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roe Doctrine-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ma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ght the rights from a French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“revol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al support in Area, USS Nashville-Recognized Panama-We get rights to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ment in China-”Open Door Poli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’s “Dollar Diplom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10kMiles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ism as un-Americ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espot-verdict-27-feb-1899"/>
          <p:cNvPicPr/>
          <p:nvPr/>
        </p:nvPicPr>
        <p:blipFill>
          <a:blip r:embed="rId1"/>
          <a:stretch/>
        </p:blipFill>
        <p:spPr>
          <a:xfrm>
            <a:off x="0" y="2133720"/>
            <a:ext cx="4037040" cy="47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mall24March1900"/>
          <p:cNvPicPr/>
          <p:nvPr/>
        </p:nvPicPr>
        <p:blipFill>
          <a:blip r:embed="rId2"/>
          <a:stretch/>
        </p:blipFill>
        <p:spPr>
          <a:xfrm>
            <a:off x="4114800" y="2514600"/>
            <a:ext cx="50292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2-11-~1"/>
          <p:cNvPicPr/>
          <p:nvPr/>
        </p:nvPicPr>
        <p:blipFill>
          <a:blip r:embed="rId1"/>
          <a:stretch/>
        </p:blipFill>
        <p:spPr>
          <a:xfrm>
            <a:off x="2895480" y="0"/>
            <a:ext cx="461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abbitt's Soap"/>
          <p:cNvPicPr/>
          <p:nvPr/>
        </p:nvPicPr>
        <p:blipFill>
          <a:blip r:embed="rId1"/>
          <a:stretch/>
        </p:blipFill>
        <p:spPr>
          <a:xfrm>
            <a:off x="533520" y="0"/>
            <a:ext cx="81388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apolio soap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pling, The White Man’s Burden   1899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e up the White Man’s Burden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one with Childish Day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es now, to search your manhood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all the thankless year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d, edged with dear-bought wisdom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udgment of your peers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1899BalanceCartoon"/>
          <p:cNvPicPr/>
          <p:nvPr/>
        </p:nvPicPr>
        <p:blipFill>
          <a:blip r:embed="rId1"/>
          <a:stretch/>
        </p:blipFill>
        <p:spPr>
          <a:xfrm>
            <a:off x="0" y="0"/>
            <a:ext cx="47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Rosier 1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lide 5"/>
          <p:cNvPicPr/>
          <p:nvPr/>
        </p:nvPicPr>
        <p:blipFill>
          <a:blip r:embed="rId1"/>
          <a:stretch/>
        </p:blipFill>
        <p:spPr>
          <a:xfrm>
            <a:off x="1752480" y="0"/>
            <a:ext cx="58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What should America’s role be in the World around the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Slide 4"/>
          <p:cNvPicPr/>
          <p:nvPr/>
        </p:nvPicPr>
        <p:blipFill>
          <a:blip r:embed="rId1"/>
          <a:stretch/>
        </p:blipFill>
        <p:spPr>
          <a:xfrm rot="21458400">
            <a:off x="-303120" y="-207720"/>
            <a:ext cx="10069560" cy="74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eamamerrica"/>
          <p:cNvPicPr/>
          <p:nvPr/>
        </p:nvPicPr>
        <p:blipFill>
          <a:blip r:embed="rId1"/>
          <a:stretch/>
        </p:blipFill>
        <p:spPr>
          <a:xfrm>
            <a:off x="1752480" y="685800"/>
            <a:ext cx="55627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United States acquire the following territ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rationalization for Imperialism given by many in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-Queen Lili, Teddy Roosevelt and his “Corollary” and 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AE8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rostiche that summarizes the main arguments described in Josiah Strong’s “Our Coun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rostiche uses words or phrases that described the title of the acros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itle is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mperi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tion extends influence over w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the U.S. as Imperiali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oun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usiness in search of new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just looking for a f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As-Public Service Announc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quick but effective PSA that argues one the arguments presented in the two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ists (Pro-Imperial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Imperialists (Anti-Imperialism Lea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6-”Seward’s Folly” or Seaward’s Ice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.2 Million to the Russ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ents an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arahp"/>
          <p:cNvPicPr/>
          <p:nvPr/>
        </p:nvPicPr>
        <p:blipFill>
          <a:blip r:embed="rId1"/>
          <a:stretch/>
        </p:blipFill>
        <p:spPr>
          <a:xfrm>
            <a:off x="4876920" y="16002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1:52:37Z</dcterms:created>
  <dc:creator>tbabcock</dc:creator>
  <dc:description/>
  <dc:language>en-US</dc:language>
  <cp:lastModifiedBy>tbabcock</cp:lastModifiedBy>
  <dcterms:modified xsi:type="dcterms:W3CDTF">2010-03-19T14:01:46Z</dcterms:modified>
  <cp:revision>38</cp:revision>
  <dc:subject/>
  <dc:title>Slide 1</dc:title>
</cp:coreProperties>
</file>