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5D3C-7A79-458E-B56F-C330DE13F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C5F9-CB74-4DAD-894C-5F4D4FB50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03B5-9FCE-4BD2-9D40-E0AF16579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3F25-3379-41BA-9BA3-5E4CB2438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7025-7B20-4A37-98A6-0FB767B8C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5EA6-0FCF-4D9F-BD12-3801E9A13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B36B-9DE9-4275-ADBE-9D2E79448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78D-539E-4ABD-9C0F-CF2F22363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8D3C-D754-4811-A941-D7C722D43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2D10-DF85-47A5-AC65-506FBA63B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5E5-3A58-4ADF-B54B-F31E9B74A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8E70-CA83-4F70-A5E5-A094131B2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920E-225A-47D6-9E62-C2932E443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5728-C900-48EB-8C76-A81543FEA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35B2-3CC3-4D1C-8B43-4147DF36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CONTRAST WITH THE LOWER LEFT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75E5-ACA8-488A-B103-C63F854A8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DFB3-6A33-49EF-83EF-2ABA44527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A4A7-6F67-4CA5-BFA6-C9D7399B9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 helped Americans imagine themselves part of a larger world but also as doing good works in the messy world of imperialism, helping to justify imperial expan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liness is the scale of Civil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on the t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1D1C-3BE5-4C36-9757-25213B2E6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 helped Americans imagine themselves part of a larger world but also as doing good works in the messy world of imperialism, helping to justify imperial expansion.  ASK WHY THIS AD WOULD APPEAR IN LADIES HOME JOURNAL, 1899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:  Name, narrative,slogan,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use of Sapollo is a distinguishing mark of enlightened people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05FC-DB9F-4BC9-ABA5-5F8C6DA08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BOTTOM CAPTION: FROM JOHN B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13D1-31BA-473E-8989-B2FD51223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er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AD2F-EB24-4972-8960-CA8603B6D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85F1-C242-42A0-8DFF-F1E1C221B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57E6-F7D6-43E3-A74A-B238D3308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E307-3EC7-4352-B34D-7D2FF0B82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BA6D-E3B2-4EA2-8F87-6EDB4AC6B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883A-BE69-4940-ABD1-983750A74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2378-0B85-40FA-8BBC-D11192363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3BB-32B4-4C51-9351-70586CD2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7A0-9652-4187-8C58-818C063A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227-111A-4F5B-B7FD-425FB895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594-BF2C-4711-89CA-0353E2A0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16C-140A-4513-AEDE-327B3FAE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47F-A8D0-4899-AC57-DD579078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9A9-E810-40CB-B388-63A87F4D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9C3-FC95-47E8-AF8C-DF382614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D30-4FA4-4948-9B36-FDFF62C3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F2B-CB66-49B6-AB93-4D8B8C28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5D5-A75C-4DC0-9C64-DE91D7D5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13B-D999-428A-9319-65167C63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6F5E-CE93-47AD-9393-5BDD34BC5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n Empi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wa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owned Sugar companies ¾ of Island’s w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igrant wor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Kinley Tariff 1890 was going to get rid of Duty-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awaii"/>
          <p:cNvPicPr/>
          <p:nvPr/>
        </p:nvPicPr>
        <p:blipFill>
          <a:blip r:embed="rId1"/>
          <a:stretch/>
        </p:blipFill>
        <p:spPr>
          <a:xfrm>
            <a:off x="5029200" y="167652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waii-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dies-white owners-make voting wealthy land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Liliuokalani-”Hawaii for Hawaiia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grown Marine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back to throne-Set up as a Repub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8-American Territory (1959 Hawaii a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rl  Harbor Naval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to the Spanish American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4-Buy Cub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8-1870-Rebellions-Americans empathized with Cub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6-Cuba abolishes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 inv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5-2nd War for Independence-Jose Marti-We support, just not militar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to Span-Am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 crushe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ed 300,000 Cubans into concentration c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from disease/hu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no military action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PulitzerHearstWarYellowKids"/>
          <p:cNvPicPr/>
          <p:nvPr/>
        </p:nvPicPr>
        <p:blipFill>
          <a:blip r:embed="rId1"/>
          <a:stretch/>
        </p:blipFill>
        <p:spPr>
          <a:xfrm>
            <a:off x="395280" y="590400"/>
            <a:ext cx="83534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furnish the picture and I’ll furnish the wa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ome letter-leaked to press, called President McKinley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 Maine explodes off the coas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 Marines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tries to stay out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ant Secretary of Navy will have it no other way (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aine"/>
          <p:cNvPicPr/>
          <p:nvPr/>
        </p:nvPicPr>
        <p:blipFill>
          <a:blip r:embed="rId1"/>
          <a:stretch/>
        </p:blipFill>
        <p:spPr>
          <a:xfrm>
            <a:off x="1219320" y="762120"/>
            <a:ext cx="6019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the Main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with two fro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dore Dewey destroyed fleet invades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-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ral Samp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 prepared army-125,000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Americans and Roughriders inv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-San Juan 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-”The He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lendid Little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y of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-F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pines-sold $23 million, annexed after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m and Puerto Rico become US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er and Platt Amend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ot establish permanent control over 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 gave right for Americans to intervene in Cuba’s affairs “to protect life liberty and proper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What should “America” look lik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sevelt Corollary-“Big Stick Poli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roe Doctrine-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ama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ght the rights from a French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“revolu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al support in Area, USS Nashville-Recognized Panama-We get rights to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ment in China-”Open Door Poli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’s “Dollar Diploma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10kMiles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ialism as un-Americ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Despot-verdict-27-feb-1899"/>
          <p:cNvPicPr/>
          <p:nvPr/>
        </p:nvPicPr>
        <p:blipFill>
          <a:blip r:embed="rId1"/>
          <a:stretch/>
        </p:blipFill>
        <p:spPr>
          <a:xfrm>
            <a:off x="0" y="2133720"/>
            <a:ext cx="4037040" cy="472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Small24March1900"/>
          <p:cNvPicPr/>
          <p:nvPr/>
        </p:nvPicPr>
        <p:blipFill>
          <a:blip r:embed="rId2"/>
          <a:stretch/>
        </p:blipFill>
        <p:spPr>
          <a:xfrm>
            <a:off x="4114800" y="2514600"/>
            <a:ext cx="50292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2-11-~1"/>
          <p:cNvPicPr/>
          <p:nvPr/>
        </p:nvPicPr>
        <p:blipFill>
          <a:blip r:embed="rId1"/>
          <a:stretch/>
        </p:blipFill>
        <p:spPr>
          <a:xfrm>
            <a:off x="2895480" y="0"/>
            <a:ext cx="461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abbitt's Soap"/>
          <p:cNvPicPr/>
          <p:nvPr/>
        </p:nvPicPr>
        <p:blipFill>
          <a:blip r:embed="rId1"/>
          <a:stretch/>
        </p:blipFill>
        <p:spPr>
          <a:xfrm>
            <a:off x="533520" y="0"/>
            <a:ext cx="813888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apolio soap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76560" y="0"/>
            <a:ext cx="426708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pling, The White Man’s Burden   1899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e up the White Man’s Burden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one with Childish Day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es now, to search your manhood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all the thankless year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d, edged with dear-bought wisdom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udgment of your peers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1899BalanceCartoon"/>
          <p:cNvPicPr/>
          <p:nvPr/>
        </p:nvPicPr>
        <p:blipFill>
          <a:blip r:embed="rId1"/>
          <a:stretch/>
        </p:blipFill>
        <p:spPr>
          <a:xfrm>
            <a:off x="0" y="0"/>
            <a:ext cx="47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Rosier 1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lide 5"/>
          <p:cNvPicPr/>
          <p:nvPr/>
        </p:nvPicPr>
        <p:blipFill>
          <a:blip r:embed="rId1"/>
          <a:stretch/>
        </p:blipFill>
        <p:spPr>
          <a:xfrm>
            <a:off x="1752480" y="0"/>
            <a:ext cx="588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What should America’s role be in the World around the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Slide 4"/>
          <p:cNvPicPr/>
          <p:nvPr/>
        </p:nvPicPr>
        <p:blipFill>
          <a:blip r:embed="rId1"/>
          <a:stretch/>
        </p:blipFill>
        <p:spPr>
          <a:xfrm rot="21458400">
            <a:off x="-303120" y="-207720"/>
            <a:ext cx="10069560" cy="74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eamamerrica"/>
          <p:cNvPicPr/>
          <p:nvPr/>
        </p:nvPicPr>
        <p:blipFill>
          <a:blip r:embed="rId1"/>
          <a:stretch/>
        </p:blipFill>
        <p:spPr>
          <a:xfrm>
            <a:off x="1752480" y="685800"/>
            <a:ext cx="55627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United States acquire the following territo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lip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rationalization for Imperialism given by many in Ame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-Queen Lili, Teddy Roosevelt and his “Corollary” and Manifest Des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AE8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crostiche that summarizes the main arguments described in Josiah Strong’s “Our Coun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rostiche uses words or phrases that described the title of the acrost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itle is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mperia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Nation extends influence over w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the U.S. as Imperialis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oun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Business in search of new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just looking for a f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As-Public Service Announc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quick but effective PSA that argues one the arguments presented in the two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ialists (Pro-Imperiali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Imperialists (Anti-Imperialism Lea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76-”Seward’s Folly” or Seaward’s Ice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.2 Million to the Russ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ents an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arahp"/>
          <p:cNvPicPr/>
          <p:nvPr/>
        </p:nvPicPr>
        <p:blipFill>
          <a:blip r:embed="rId1"/>
          <a:stretch/>
        </p:blipFill>
        <p:spPr>
          <a:xfrm>
            <a:off x="4876920" y="16002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1:52:37Z</dcterms:created>
  <dc:creator>tbabcock</dc:creator>
  <dc:description/>
  <dc:language>en-US</dc:language>
  <cp:lastModifiedBy>tbabcock</cp:lastModifiedBy>
  <dcterms:modified xsi:type="dcterms:W3CDTF">2010-03-19T14:01:46Z</dcterms:modified>
  <cp:revision>38</cp:revision>
  <dc:subject/>
  <dc:title>Slide 1</dc:title>
</cp:coreProperties>
</file>