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B650-CC0F-48A3-8BDA-1386DC13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E31-1FC9-4EC4-BFA0-ED712BFE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AE1-B03F-41AF-B303-231F634A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623-8F0F-48BB-B3A8-F75EB1D5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95D6-A570-48E5-8207-4EA1CAB4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D96-82A7-470D-A449-E561B7BD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2AEB-444D-4117-B7F1-8FF30821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EB1-65DD-40F2-ADB1-91EF1CB8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B23-D2ED-4B38-958B-6EF66D92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713B-35C2-4DFB-B90C-EAE116FE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A42-35C3-4F11-A6FC-18A96071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0A13-5562-45D6-A740-C3B3DE60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7E71-C02A-475F-8531-4E2FFA86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C06-64F4-420E-8887-CB02125F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8C5-6348-4063-A6F2-095B1499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CONTRAST WITH THE LOWER LEFT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E13B-1DA2-44A7-A4A4-A2B87E31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D7E3-12F9-4DD2-8D44-BD2C6FB5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C9F0-B1B2-499C-9FF5-2A541934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liness is the scale of Civil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n the t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5290-4D35-422B-982B-891BB4EF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 helped Americans imagine themselves part of a larger world but also as doing good works in the messy world of imperialism, helping to justify imperial expansion.  ASK WHY THIS AD WOULD APPEAR IN LADIES HOME JOURNAL, 1899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:  Name, narrative,slogan,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use of Sapollo is a distinguishing mark of enlightened people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66E6-342D-4443-80EE-7D4D0400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BOTTOM CAPTION: FROM JOHN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147C-9C81-4E9F-9A5B-2B2E3CFB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AB5-9743-4D45-9895-704969E8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E06-6E3C-4D4D-BB54-1B97C1DD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90BE-C733-486E-9AA6-95160A54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7DB-3964-4D18-8414-8495BAB9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C8F-BBDB-4C36-AEB9-EA486BAF4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A1A0-15BB-4162-A094-C5D309C0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2B2-52DB-4D50-829B-16B82AC0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164-5CDF-4219-9965-EEBBE9C5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5AE-A4A9-429A-ACD3-857BE30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18F-1EBF-4467-9377-9B8162A5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222-18C0-4FA2-94C0-42545D3F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995-C70A-4E18-BD7B-B75B9B4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95C-4971-437A-9B75-0152A86D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5B1-7C30-4FB5-A473-ABAA8B1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C82-A7A7-4CE1-96DF-17C462D4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EAB-E9E4-4B49-AE3B-E43A7ED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696-919B-48EE-9683-429FB81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52B-C65E-46CB-81F8-71B2E23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344-275E-405D-A350-8287812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AA2-5812-4B39-8F55-560248CC4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Empi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owned Sugar companies ¾ of Island’s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nt wor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Kinley Tariff 1890 was going to get rid of Du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awaii"/>
          <p:cNvPicPr/>
          <p:nvPr/>
        </p:nvPicPr>
        <p:blipFill>
          <a:blip r:embed="rId1"/>
          <a:stretch/>
        </p:blipFill>
        <p:spPr>
          <a:xfrm>
            <a:off x="502920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aii-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dies-white owners-make voting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Liliuokalani-”Hawaii for Hawaiia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grown Marin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back to throne-Set up as a Re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8-American Territory (1959 Hawaii a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l  Harbor Naval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the Spanish America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4-Buy Cu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8-1870-Rebellions-Americans empathized with Cub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6-Cuba abolishes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inv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-2nd War for Independence-Jose Marti-We support, just not milit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o Span-A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crushe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ed 300,000 Cubans into concentration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/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no military actio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PulitzerHearstWarYellowKids"/>
          <p:cNvPicPr/>
          <p:nvPr/>
        </p:nvPicPr>
        <p:blipFill>
          <a:blip r:embed="rId1"/>
          <a:stretch/>
        </p:blipFill>
        <p:spPr>
          <a:xfrm>
            <a:off x="395280" y="590400"/>
            <a:ext cx="83534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furnish the picture and I’ll furnish the wa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ome letter-leaked to press, called President McKinle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Maine explodes off the coast of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arine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tries to stay ou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Secretary of Navy will have it no other way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ine"/>
          <p:cNvPicPr/>
          <p:nvPr/>
        </p:nvPicPr>
        <p:blipFill>
          <a:blip r:embed="rId1"/>
          <a:stretch/>
        </p:blipFill>
        <p:spPr>
          <a:xfrm>
            <a:off x="1219320" y="762120"/>
            <a:ext cx="6019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Ma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two fro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dore Dewey destroyed fleet invades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-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a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rmy-125,000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Roughriders inv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San Juan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-”The H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lendid Little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-F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-sold $23 million, annexed aft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 and Puerto Rico become US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er and Platt Amend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ot establish permanent control over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 gave right for Americans to intervene in Cuba’s affairs “to protect life liberty and prope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What should “America” look lik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sevelt Corollary-“Big Stick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roe Doctrine-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ght the rights from a French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“revolu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al support in Area, USS Nashville-Recognized Panama-We get rights t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ment in China-”Open Door Poli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’s “Dollar Diplom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0kMiles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m as un-Americ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espot-verdict-27-feb-1899"/>
          <p:cNvPicPr/>
          <p:nvPr/>
        </p:nvPicPr>
        <p:blipFill>
          <a:blip r:embed="rId1"/>
          <a:stretch/>
        </p:blipFill>
        <p:spPr>
          <a:xfrm>
            <a:off x="0" y="2133720"/>
            <a:ext cx="4037040" cy="47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mall24March1900"/>
          <p:cNvPicPr/>
          <p:nvPr/>
        </p:nvPicPr>
        <p:blipFill>
          <a:blip r:embed="rId2"/>
          <a:stretch/>
        </p:blipFill>
        <p:spPr>
          <a:xfrm>
            <a:off x="4114800" y="2514600"/>
            <a:ext cx="50292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-11-~1"/>
          <p:cNvPicPr/>
          <p:nvPr/>
        </p:nvPicPr>
        <p:blipFill>
          <a:blip r:embed="rId1"/>
          <a:stretch/>
        </p:blipFill>
        <p:spPr>
          <a:xfrm>
            <a:off x="2895480" y="0"/>
            <a:ext cx="461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bbitt's Soap"/>
          <p:cNvPicPr/>
          <p:nvPr/>
        </p:nvPicPr>
        <p:blipFill>
          <a:blip r:embed="rId1"/>
          <a:stretch/>
        </p:blipFill>
        <p:spPr>
          <a:xfrm>
            <a:off x="533520" y="0"/>
            <a:ext cx="81388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apolio soap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pling, The White Man’s Burden   1899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up the White Man’s Burden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one with Childish Day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es now, to search your manhood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all the thankless year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d, edged with dear-bought wisdom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udgment of your peers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1899BalanceCartoon"/>
          <p:cNvPicPr/>
          <p:nvPr/>
        </p:nvPicPr>
        <p:blipFill>
          <a:blip r:embed="rId1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osier 1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 5"/>
          <p:cNvPicPr/>
          <p:nvPr/>
        </p:nvPicPr>
        <p:blipFill>
          <a:blip r:embed="rId1"/>
          <a:stretch/>
        </p:blipFill>
        <p:spPr>
          <a:xfrm>
            <a:off x="1752480" y="0"/>
            <a:ext cx="58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What should America’s role be in the World around the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Slide 4"/>
          <p:cNvPicPr/>
          <p:nvPr/>
        </p:nvPicPr>
        <p:blipFill>
          <a:blip r:embed="rId1"/>
          <a:stretch/>
        </p:blipFill>
        <p:spPr>
          <a:xfrm rot="21458400">
            <a:off x="-303120" y="-207720"/>
            <a:ext cx="10069560" cy="74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eamamerrica"/>
          <p:cNvPicPr/>
          <p:nvPr/>
        </p:nvPicPr>
        <p:blipFill>
          <a:blip r:embed="rId1"/>
          <a:stretch/>
        </p:blipFill>
        <p:spPr>
          <a:xfrm>
            <a:off x="1752480" y="685800"/>
            <a:ext cx="556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United States acquire the following terri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rationalization for Imperialism given by many in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-Queen Lili, Teddy Roosevelt and his “Corollary” and 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E8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rostiche that summarizes the main arguments described in Josiah Strong’s “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stiche uses words or phrases that described the title of the acro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itle is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mper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Nation extends influence over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e U.S. as Imperial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u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usiness in search of 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just looking for a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As-Public Service Annou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ick but effective PSA that argues one the arguments presented in the two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ists (Pro-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Imperialists (Anti-Imperialism Le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6-”Seward’s Folly” or Seaward’s Ice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.2 Million to the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ents an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arahp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52:37Z</dcterms:created>
  <dc:creator>tbabcock</dc:creator>
  <dc:description/>
  <dc:language>en-US</dc:language>
  <cp:lastModifiedBy>tbabcock</cp:lastModifiedBy>
  <dcterms:modified xsi:type="dcterms:W3CDTF">2010-03-19T14:01:46Z</dcterms:modified>
  <cp:revision>38</cp:revision>
  <dc:subject/>
  <dc:title>Slide 1</dc:title>
</cp:coreProperties>
</file>