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D9F04-61E7-463A-9328-E306A4EBAC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EC48D-D993-412B-AF5D-6CB7939E00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367FC-39DA-41C6-8970-542DDDDF1D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D0B44-4729-4959-8F62-B3443C9FB8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2DEAE-83D9-408D-93E4-143EB68B59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15D85-39AC-47EB-81D3-CA656A1953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4C8A2-4F2B-496B-A13E-B7192D3EC3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0A9FC-9816-44F4-9B0B-AE335B65A8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8F968-C049-4FE2-BF45-30C22F29D1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F371B-E3E3-4861-A4E5-5CF0818C2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1E8BB-6736-4AB1-847C-C6A5AC8270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61002-345A-4F56-945E-E1FBFEAA08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4950A-7840-4F52-9BC8-EB4FE9308A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D33ED-AB5F-46E1-BD41-58382A95D0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15A2E-6F0B-4DAD-9373-6C6C050A5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E CONTRAST WITH THE LOWER LEFT 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51C43-7552-4DD6-9127-FF5154B3D2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CA9B0-6DF5-4F97-840C-6216C9BDE4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04379-6761-4385-8FFF-5FD677F271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ertising helped Americans imagine themselves part of a larger world but also as doing good works in the messy world of imperialism, helping to justify imperial expans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nliness is the scale of Civiliz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ation on the the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33634-1019-435C-A53D-3FEB4C8053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ertising helped Americans imagine themselves part of a larger world but also as doing good works in the messy world of imperialism, helping to justify imperial expansion.  ASK WHY THIS AD WOULD APPEAR IN LADIES HOME JOURNAL, 1899?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NDING:  Name, narrative,slogan, purpo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The use of Sapollo is a distinguishing mark of enlightened people.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A58B2-3933-4077-9F95-79C237A22B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E BOTTOM CAPTION: FROM JOHN B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2EABF-992D-4224-9F77-0CBF261407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xer Rebel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2A642-60FA-4624-B5A7-1FF272211D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F235A-A66E-4104-8A0F-71040626B8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C9F6E-51B6-43CE-BF2C-96F3A1C932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A77DD-391D-4258-91C0-CC2DFD48B4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33CEC-1AF7-4737-AA70-361F9ADE59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7FB0F-53CF-44A8-A3AB-5C97F2FF36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79CCC-DDEA-4216-BF4C-ACCF173BC2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234E-4195-49A8-A2F2-0B622C066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CA3E-52DF-4EF7-8EB6-04C0E7D16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D941-A987-4113-A3B1-85BB2DC79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07D4-7F4C-4C88-8103-A8D7DC8AF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DF87-DC61-4F6B-8671-46DD7D730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FF0D-87EA-4E91-B525-62945F049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426D-8E4F-43F1-8915-EA4C25013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D47A-7BBE-4EBB-96C1-4BF3E53D5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6EB4-D5C1-4FA0-8FBF-D21087951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0E84-3DAB-482C-8A9A-4B799EDEF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E96C-C5D9-42B2-8D89-39F083DEE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7404-E673-4088-921F-72A08A5EB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5166E-9C3D-4BD6-8301-FF96D31F33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eri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an Empir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wa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.S. owned Sugar companies ¾ of Island’s weal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migrant work 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cKinley Tariff 1890 was going to get rid of Duty-F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hawaii"/>
          <p:cNvPicPr/>
          <p:nvPr/>
        </p:nvPicPr>
        <p:blipFill>
          <a:blip r:embed="rId1"/>
          <a:stretch/>
        </p:blipFill>
        <p:spPr>
          <a:xfrm>
            <a:off x="5029200" y="1676520"/>
            <a:ext cx="32767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waii-Contin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ng dies-white owners-make voting wealthy land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en Liliuokalani-”Hawaii for Hawaiian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grown Marine rev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en back to throne-Set up as a Republi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98-American Territory (1959 Hawaii a Sta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arl  Harbor Naval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ckground to the Spanish American W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54-Buy Cub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68-1870-Rebellions-Americans empathized with Cub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86-Cuba abolishes sla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 inv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95-2nd War for Independence-Jose Marti-We support, just not militar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ckground to Span-Am continu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in crushes rebell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ded 300,000 Cubans into concentration ca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ath from disease/hu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ain, no military action t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7" descr="PulitzerHearstWarYellowKids"/>
          <p:cNvPicPr/>
          <p:nvPr/>
        </p:nvPicPr>
        <p:blipFill>
          <a:blip r:embed="rId1"/>
          <a:stretch/>
        </p:blipFill>
        <p:spPr>
          <a:xfrm>
            <a:off x="395280" y="590400"/>
            <a:ext cx="8353440" cy="567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furnish the picture and I’ll furnish the war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Lome letter-leaked to press, called President McKinley we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S Maine explodes off the coast of Cu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0 Marines kil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in tries to stay out of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stant Secretary of Navy will have it no other way (T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maine"/>
          <p:cNvPicPr/>
          <p:nvPr/>
        </p:nvPicPr>
        <p:blipFill>
          <a:blip r:embed="rId1"/>
          <a:stretch/>
        </p:blipFill>
        <p:spPr>
          <a:xfrm>
            <a:off x="1219320" y="762120"/>
            <a:ext cx="60195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ember the Main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 with two fro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hilippi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dore Dewey destroyed fleet invades Philipp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AN-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miral Samp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ibb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 prepared army-125,000 volunte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rican Americans and Roughriders inv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ba-San Juan H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-”The Hero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plendid Little Wa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eaty of Par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ba-Fr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ilippines-sold $23 million, annexed after deb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am and Puerto Rico become US Terri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ler and Platt Amend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not establish permanent control over Cu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tt gave right for Americans to intervene in Cuba’s affairs “to protect life liberty and propert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Question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What should “America” look like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erialism Contin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osevelt Corollary-“Big Stick Polic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roe Doctrine-Amer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in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nama Ca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ught the rights from a French comp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ed a “revolutio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val support in Area, USS Nashville-Recognized Panama-We get rights to Ca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erialism Contin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olvement in China-”Open Door Polic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son’s “Dollar Diplomac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10kMiles"/>
          <p:cNvPicPr/>
          <p:nvPr/>
        </p:nvPicPr>
        <p:blipFill>
          <a:blip r:embed="rId1"/>
          <a:stretch/>
        </p:blipFill>
        <p:spPr>
          <a:xfrm>
            <a:off x="152280" y="304920"/>
            <a:ext cx="8763120" cy="61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erialism as un-Americ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Despot-verdict-27-feb-1899"/>
          <p:cNvPicPr/>
          <p:nvPr/>
        </p:nvPicPr>
        <p:blipFill>
          <a:blip r:embed="rId1"/>
          <a:stretch/>
        </p:blipFill>
        <p:spPr>
          <a:xfrm>
            <a:off x="0" y="2133720"/>
            <a:ext cx="4037040" cy="4724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Small24March1900"/>
          <p:cNvPicPr/>
          <p:nvPr/>
        </p:nvPicPr>
        <p:blipFill>
          <a:blip r:embed="rId2"/>
          <a:stretch/>
        </p:blipFill>
        <p:spPr>
          <a:xfrm>
            <a:off x="4114800" y="2514600"/>
            <a:ext cx="502920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02-11-~1"/>
          <p:cNvPicPr/>
          <p:nvPr/>
        </p:nvPicPr>
        <p:blipFill>
          <a:blip r:embed="rId1"/>
          <a:stretch/>
        </p:blipFill>
        <p:spPr>
          <a:xfrm>
            <a:off x="2895480" y="0"/>
            <a:ext cx="4611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Babbitt's Soap"/>
          <p:cNvPicPr/>
          <p:nvPr/>
        </p:nvPicPr>
        <p:blipFill>
          <a:blip r:embed="rId1"/>
          <a:stretch/>
        </p:blipFill>
        <p:spPr>
          <a:xfrm>
            <a:off x="533520" y="0"/>
            <a:ext cx="8138880" cy="67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Sapolio soap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876560" y="0"/>
            <a:ext cx="426708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ipling, The White Man’s Burden   1899</a:t>
            </a:r>
            <a:br>
              <a:rPr sz="1800"/>
            </a:br>
            <a:br>
              <a:rPr sz="18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ke up the White Man’s Burden,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one with Childish Days,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es now, to search your manhood,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rough all the thankless years,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ld, edged with dear-bought wisdom,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judgment of your peers.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1899BalanceCartoon"/>
          <p:cNvPicPr/>
          <p:nvPr/>
        </p:nvPicPr>
        <p:blipFill>
          <a:blip r:embed="rId1"/>
          <a:stretch/>
        </p:blipFill>
        <p:spPr>
          <a:xfrm>
            <a:off x="0" y="0"/>
            <a:ext cx="4721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Rosier 1"/>
          <p:cNvPicPr/>
          <p:nvPr/>
        </p:nvPicPr>
        <p:blipFill>
          <a:blip r:embed="rId1"/>
          <a:stretch/>
        </p:blipFill>
        <p:spPr>
          <a:xfrm>
            <a:off x="228600" y="0"/>
            <a:ext cx="8534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Slide 5"/>
          <p:cNvPicPr/>
          <p:nvPr/>
        </p:nvPicPr>
        <p:blipFill>
          <a:blip r:embed="rId1"/>
          <a:stretch/>
        </p:blipFill>
        <p:spPr>
          <a:xfrm>
            <a:off x="1752480" y="0"/>
            <a:ext cx="588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Question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6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Arial"/>
              </a:rPr>
              <a:t>What should America’s role be in the World around them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Slide 4"/>
          <p:cNvPicPr/>
          <p:nvPr/>
        </p:nvPicPr>
        <p:blipFill>
          <a:blip r:embed="rId1"/>
          <a:stretch/>
        </p:blipFill>
        <p:spPr>
          <a:xfrm rot="21458400">
            <a:off x="-303120" y="-207720"/>
            <a:ext cx="10069560" cy="744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teamamerrica"/>
          <p:cNvPicPr/>
          <p:nvPr/>
        </p:nvPicPr>
        <p:blipFill>
          <a:blip r:embed="rId1"/>
          <a:stretch/>
        </p:blipFill>
        <p:spPr>
          <a:xfrm>
            <a:off x="1752480" y="685800"/>
            <a:ext cx="5562720" cy="51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i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id the United States acquire the following territor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erto R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illipi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as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as the rationalization for Imperialism given by many in Americ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s-Queen Lili, Teddy Roosevelt and his “Corollary” and Manifest Desti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AE8"/>
          <p:cNvPicPr/>
          <p:nvPr/>
        </p:nvPicPr>
        <p:blipFill>
          <a:blip r:embed="rId1"/>
          <a:stretch/>
        </p:blipFill>
        <p:spPr>
          <a:xfrm>
            <a:off x="0" y="0"/>
            <a:ext cx="914400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 to Imperi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n acrostiche that summarizes the main arguments described in Josiah Strong’s “Our Countr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crostiche uses words or phrases that described the title of the acrosti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title is Imperia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Imperialis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nger Nation extends influence over wea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nom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ic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it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the U.S. as Imperialist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ifest Desti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Countr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g Business in search of new Mar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tia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just looking for a f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SAs-Public Service Announc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quick but effective PSA that argues one the arguments presented in the two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erialists (Pro-Imperialis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i-Imperialists (Anti-Imperialism Leagu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a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76-”Seward’s Folly” or Seaward’s Iceb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7.2 Million to the Russi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Cents an Ac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sarahp"/>
          <p:cNvPicPr/>
          <p:nvPr/>
        </p:nvPicPr>
        <p:blipFill>
          <a:blip r:embed="rId1"/>
          <a:stretch/>
        </p:blipFill>
        <p:spPr>
          <a:xfrm>
            <a:off x="4876920" y="1600200"/>
            <a:ext cx="3886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7T11:52:37Z</dcterms:created>
  <dc:creator>tbabcock</dc:creator>
  <dc:description/>
  <dc:language>en-US</dc:language>
  <cp:lastModifiedBy>tbabcock</cp:lastModifiedBy>
  <dcterms:modified xsi:type="dcterms:W3CDTF">2010-03-19T14:01:46Z</dcterms:modified>
  <cp:revision>38</cp:revision>
  <dc:subject/>
  <dc:title>Slide 1</dc:title>
</cp:coreProperties>
</file>