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F251-42EF-4F53-8322-3C07BC52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EF7-1BBC-40AF-9D58-5AA0593A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BA3C-6036-42CD-BF2E-6C8C1C00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F23-152A-43E1-ADB1-24FB34E3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3B0A-A925-4A58-AC2E-5BD1203F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53E2-1B91-428E-A575-426C6B9B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C968-1100-463C-9F39-F084AE71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414-FEB6-48DA-93EB-19B91A3C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A40-70D9-4A0C-B016-5341EB2A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080B-0E84-4AE0-8145-F44B5498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E8A-79A0-4347-89D8-1A2AACE0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B7B-1B96-45BD-B82A-7C37A2FE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F16A-3778-4EBF-9FB8-5A91B79A7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fklibrary.org/NR/rdonlyres/959B8D46-B5E7-40E8-A0BD-60E09229B8C3/20270/WHHOPortrait.jpg&amp;imgrefurl=http://www.jfklibrary.org/Asset%2BTree/Asset%2BViewers/Image%2BAsset%2BViewer.htm%3Fguid%3D%257B959B8D46-B5E7-40E8-A0BD-60E09229B8C3%257D%26type%3DlgImage&amp;usg=__arqReHkBt0TafICoUU9p_kTJ9Og=&amp;h=970&amp;w=760&amp;sz=463&amp;hl=en&amp;start=2&amp;um=1&amp;itbs=1&amp;tbnid=VIzDntPtROwBEM:&amp;tbnh=149&amp;tbnw=117&amp;prev=/images%3Fq%3Dpresident%2Bkennedy%26um%3D1%26hl%3Den%26safe%3Dactive%26sa%3DN%26rlz%3D1T4DMUS_enUS234US238%26tbs%3Disch: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chive.org/details/1960_kennedy-nixon_1" TargetMode="External"/><Relationship Id="rId2" Type="http://schemas.openxmlformats.org/officeDocument/2006/relationships/hyperlink" Target="http://images.google.com/imgres?imgurl=http://blogs.smh.com.au/whitehouse08/kennedy_nixon.jpg&amp;imgrefurl=http://blogs.smh.com.au/whitehouse08/archives/2008/09/on_eve_of_debate_nixon_and_ken.html&amp;usg=__bWo3CHlwtL6Rq1JJFrgqY7XYuyw=&amp;h=346&amp;w=300&amp;sz=29&amp;hl=en&amp;start=6&amp;um=1&amp;itbs=1&amp;tbnid=LMTZ-SfhwVUSiM:&amp;tbnh=120&amp;tbnw=104&amp;prev=/images%3Fq%3Dkennedy%2Bnixon%2Bdebates%26um%3D1%26hl%3Den%26safe%3Dactive%26sa%3DN%26rlz%3D1T4DMUS_enUS234US238%26tbs%3Disch: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johngushue.typepad.com/photos/uncategorized/berlin_wall_construction_1961.jpg&amp;imgrefurl=http://americanfuture.net/%3Fcat%3D119&amp;usg=__JTDZW-r0rGaUX4dKXGWfE28Gt7w=&amp;h=624&amp;w=800&amp;sz=102&amp;hl=en&amp;start=8&amp;um=1&amp;itbs=1&amp;tbnid=PPKf_8sCikHjTM:&amp;tbnh=112&amp;tbnw=143&amp;prev=/images%3Fq%3Dberlin%2Bwall%2Braised%2Bin%2B1961%26um%3D1%26hl%3Den%26safe%3Dactive%26rlz%3D1T4DMUS_enUS234US238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Fro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edy’s America: Promise cut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394000" cy="304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ion of 1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edy v. Nixon-196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ennedy-Nixon Deb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857680"/>
            <a:ext cx="73152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Cor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Domestic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alized till Joh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886200"/>
            <a:ext cx="350532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ign Policy (Still the Cold Wa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 of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ed CIA overth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li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an Missil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liation for Bay of Pigs or Red Mena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Presence in Viet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7:24:28Z</dcterms:created>
  <dc:creator>tbabcock</dc:creator>
  <dc:description/>
  <dc:language>en-US</dc:language>
  <cp:lastModifiedBy>tbabcock</cp:lastModifiedBy>
  <dcterms:modified xsi:type="dcterms:W3CDTF">2010-04-19T11:44:07Z</dcterms:modified>
  <cp:revision>12</cp:revision>
  <dc:subject/>
  <dc:title>The New Frontier</dc:title>
</cp:coreProperties>
</file>