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8837-C2F8-4976-B5C8-05CC26D1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DB2C-23F2-4800-B359-7F134D0E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08C5-9926-4229-9D92-39FB4241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2230-926E-4035-97B5-0DB85335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815D-4701-4746-82DC-0A8D9DD2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958D-5806-4B1F-A7CC-AF777CF5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ACA1-5CD9-4917-83CB-171D1427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938B-BF68-4F22-9D39-D5BB5BF6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2BAC-D859-4291-B063-B40BC7C2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E8E4-2DE2-4562-A812-E48078CD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4EC4-0CB9-4EB0-B196-144A9AA1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F997-D6BA-40D1-94B8-03DD0461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BDBA-F26F-4C75-8030-3E2496D7B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fklibrary.org/NR/rdonlyres/959B8D46-B5E7-40E8-A0BD-60E09229B8C3/20270/WHHOPortrait.jpg&amp;imgrefurl=http://www.jfklibrary.org/Asset%2BTree/Asset%2BViewers/Image%2BAsset%2BViewer.htm%3Fguid%3D%257B959B8D46-B5E7-40E8-A0BD-60E09229B8C3%257D%26type%3DlgImage&amp;usg=__arqReHkBt0TafICoUU9p_kTJ9Og=&amp;h=970&amp;w=760&amp;sz=463&amp;hl=en&amp;start=2&amp;um=1&amp;itbs=1&amp;tbnid=VIzDntPtROwBEM:&amp;tbnh=149&amp;tbnw=117&amp;prev=/images%3Fq%3Dpresident%2Bkennedy%26um%3D1%26hl%3Den%26safe%3Dactive%26sa%3DN%26rlz%3D1T4DMUS_enUS234US238%26tbs%3Disch: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rchive.org/details/1960_kennedy-nixon_1" TargetMode="External"/><Relationship Id="rId2" Type="http://schemas.openxmlformats.org/officeDocument/2006/relationships/hyperlink" Target="http://images.google.com/imgres?imgurl=http://blogs.smh.com.au/whitehouse08/kennedy_nixon.jpg&amp;imgrefurl=http://blogs.smh.com.au/whitehouse08/archives/2008/09/on_eve_of_debate_nixon_and_ken.html&amp;usg=__bWo3CHlwtL6Rq1JJFrgqY7XYuyw=&amp;h=346&amp;w=300&amp;sz=29&amp;hl=en&amp;start=6&amp;um=1&amp;itbs=1&amp;tbnid=LMTZ-SfhwVUSiM:&amp;tbnh=120&amp;tbnw=104&amp;prev=/images%3Fq%3Dkennedy%2Bnixon%2Bdebates%26um%3D1%26hl%3Den%26safe%3Dactive%26sa%3DN%26rlz%3D1T4DMUS_enUS234US238%26tbs%3Disch: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johngushue.typepad.com/photos/uncategorized/berlin_wall_construction_1961.jpg&amp;imgrefurl=http://americanfuture.net/%3Fcat%3D119&amp;usg=__JTDZW-r0rGaUX4dKXGWfE28Gt7w=&amp;h=624&amp;w=800&amp;sz=102&amp;hl=en&amp;start=8&amp;um=1&amp;itbs=1&amp;tbnid=PPKf_8sCikHjTM:&amp;tbnh=112&amp;tbnw=143&amp;prev=/images%3Fq%3Dberlin%2Bwall%2Braised%2Bin%2B1961%26um%3D1%26hl%3Den%26safe%3Dactive%26rlz%3D1T4DMUS_enUS234US238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Fron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nedy’s America: Promise cut 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394000" cy="3048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ion of 19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nedy v. Nixon-196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ennedy-Nixon Deb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Vide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2857680"/>
            <a:ext cx="73152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 Cor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Domestic Sp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realized till Joh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886200"/>
            <a:ext cx="350532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eign Policy (Still the Cold Wa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y of Pi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ed CIA overth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lin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ban Missil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liation for Bay of Pigs or Red Mena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Presence in Vietn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7:24:28Z</dcterms:created>
  <dc:creator>tbabcock</dc:creator>
  <dc:description/>
  <dc:language>en-US</dc:language>
  <cp:lastModifiedBy>tbabcock</cp:lastModifiedBy>
  <dcterms:modified xsi:type="dcterms:W3CDTF">2010-04-19T11:44:07Z</dcterms:modified>
  <cp:revision>12</cp:revision>
  <dc:subject/>
  <dc:title>The New Frontier</dc:title>
</cp:coreProperties>
</file>