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4FF7-4D3F-49FD-B23E-919C07AC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4B9-9E05-40B1-80ED-4CBA4811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406-8189-424C-BCED-DC8669F9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F10-C603-4B56-958A-B2976281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D77-D21C-4D0C-B90F-32C5F8C8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BF9F-7427-47A1-8D09-BFF72573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2DA-10E9-402A-92AE-ED81C21B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412-5A42-4FA1-B1B3-6E5346E7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63F-9556-409C-8FCE-A69DFA67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A7B-C177-4E94-855D-BF7754B6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8A3-F987-4071-A2CE-701C65B6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581-7DC4-4493-9B0D-B3D07641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522A-5CDF-4B63-B429-C72786E02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fklibrary.org/NR/rdonlyres/959B8D46-B5E7-40E8-A0BD-60E09229B8C3/20270/WHHOPortrait.jpg&amp;imgrefurl=http://www.jfklibrary.org/Asset%2BTree/Asset%2BViewers/Image%2BAsset%2BViewer.htm%3Fguid%3D%257B959B8D46-B5E7-40E8-A0BD-60E09229B8C3%257D%26type%3DlgImage&amp;usg=__arqReHkBt0TafICoUU9p_kTJ9Og=&amp;h=970&amp;w=760&amp;sz=463&amp;hl=en&amp;start=2&amp;um=1&amp;itbs=1&amp;tbnid=VIzDntPtROwBEM:&amp;tbnh=149&amp;tbnw=117&amp;prev=/images%3Fq%3Dpresident%2Bkennedy%26um%3D1%26hl%3Den%26safe%3Dactive%26sa%3DN%26rlz%3D1T4DMUS_enUS234US238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chive.org/details/1960_kennedy-nixon_1" TargetMode="External"/><Relationship Id="rId2" Type="http://schemas.openxmlformats.org/officeDocument/2006/relationships/hyperlink" Target="http://images.google.com/imgres?imgurl=http://blogs.smh.com.au/whitehouse08/kennedy_nixon.jpg&amp;imgrefurl=http://blogs.smh.com.au/whitehouse08/archives/2008/09/on_eve_of_debate_nixon_and_ken.html&amp;usg=__bWo3CHlwtL6Rq1JJFrgqY7XYuyw=&amp;h=346&amp;w=300&amp;sz=29&amp;hl=en&amp;start=6&amp;um=1&amp;itbs=1&amp;tbnid=LMTZ-SfhwVUSiM:&amp;tbnh=120&amp;tbnw=104&amp;prev=/images%3Fq%3Dkennedy%2Bnixon%2Bdebates%26um%3D1%26hl%3Den%26safe%3Dactive%26sa%3DN%26rlz%3D1T4DMUS_enUS234US238%26tbs%3Disch: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johngushue.typepad.com/photos/uncategorized/berlin_wall_construction_1961.jpg&amp;imgrefurl=http://americanfuture.net/%3Fcat%3D119&amp;usg=__JTDZW-r0rGaUX4dKXGWfE28Gt7w=&amp;h=624&amp;w=800&amp;sz=102&amp;hl=en&amp;start=8&amp;um=1&amp;itbs=1&amp;tbnid=PPKf_8sCikHjTM:&amp;tbnh=112&amp;tbnw=143&amp;prev=/images%3Fq%3Dberlin%2Bwall%2Braised%2Bin%2B1961%26um%3D1%26hl%3Den%26safe%3Dactive%26rlz%3D1T4DMUS_enUS234US238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dy’s America: Promise cut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39400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ion of 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dy v. Nixon-196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ennedy-Nixon Deb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857680"/>
            <a:ext cx="73152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Co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Domestic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alized till Joh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886200"/>
            <a:ext cx="350532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ign Policy (Still the Cold Wa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 of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ed CIA overth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l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an Missi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liation for Bay of Pigs or Red Mena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Presence in Viet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7:24:28Z</dcterms:created>
  <dc:creator>tbabcock</dc:creator>
  <dc:description/>
  <dc:language>en-US</dc:language>
  <cp:lastModifiedBy>tbabcock</cp:lastModifiedBy>
  <dcterms:modified xsi:type="dcterms:W3CDTF">2010-04-19T11:44:07Z</dcterms:modified>
  <cp:revision>12</cp:revision>
  <dc:subject/>
  <dc:title>The New Frontier</dc:title>
</cp:coreProperties>
</file>