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4921A-CDB0-45D6-81AD-B7F0CBE6B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E907-2575-4910-B8B9-D0422975C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2B39C-C519-4CF3-886E-0077F0257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D9EC4-6BB9-43FB-8AD2-E90A375D2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0D76C-3532-400A-95A4-05C762639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24CFF-A4ED-4F28-AC09-AA62A0331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47569-CD13-4699-9DEE-FF12BE9DB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0418E-D00D-4874-911D-07B89E775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4B031-597D-4BA3-9B60-82B902CCE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54AED-73AC-4AC8-8813-16F3EF2D3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4298B-A2AB-4980-B967-1E9E92A0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90B1-B65E-4273-86B1-05C6A2A72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8348B-5BB1-4E88-A4F4-A046ED212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29A40-77A2-4356-98C9-0EE553DEA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7FF41-7C0C-44C9-802A-1BFBCFF9F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88324-CB0B-4E3C-9AD7-6F85449FB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0891F-6442-4413-86FE-E7636DAF9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39BE4-B993-4031-A897-8C341DB81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9C4BC-B14E-4BCB-BDB9-40C9D83F9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848C0-A403-4000-97D4-90A6AADE6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983DF-503B-4A92-861F-54E9DAAFC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A7B52-BE5F-45E3-B5B6-B8B04641E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A3FC-F862-48CF-AC1B-C1F8DDF8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49434-7A16-444B-8FA2-CE95631C7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10ABC-AD7D-4F0E-AB74-F1CC71FA2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ACB10-4D02-4883-AF58-7C1F1F635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E125E-6EC9-40A8-B94C-FB525078B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FDE38-95A2-48CE-93FD-68FF7D0FF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7AAA2D-C7C1-4F3C-84D2-12233B11A6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F0BA3-1571-4D0F-A0B5-C53A6E850E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2704F-60B7-4C46-96F0-14F710FA1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0BF51-B528-4154-92A6-31BE34F0B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844E1-A8CE-4AEA-81C1-B83035EA9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29B2-73F5-42E5-8F75-9B10FD0D6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4ACF2-50C6-4552-A9DC-A0BB09816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2F161-391A-4169-85B8-5C76E260C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7F326-1E34-4680-84BC-C68517ED2B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BE325-020D-4AFA-A9CF-3B7E15739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6000A-BA09-4F61-81BB-FCDCE2629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5F1BC-9035-4399-82FB-7AB3BC3CA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AEF0E-247A-4501-9017-5FA40E06B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83D411-FC72-41D5-9A4A-10EFECBDD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E9DD2-6A89-4339-964D-283E2B4BCB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DF77-E6A0-4762-B401-2BD0974C6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95CB-9FCA-466E-A8ED-77A1698F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50FE-F545-4E38-91A1-6EA2223BA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3C604-79ED-4A93-A1D4-C6F1502DB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05DB-12BF-41BB-899B-991BD3796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EE09-0473-438A-B1DF-D0180AF417C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7A23-5AFA-4A49-A55A-5D276575224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5E0B-6622-4C67-929B-08844D3DC73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A94C-9092-47F5-B875-617DA8660F6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csub.edu/~gsantos/cat15.html" TargetMode="External"/><Relationship Id="rId3" Type="http://schemas.openxmlformats.org/officeDocument/2006/relationships/hyperlink" Target="http://www2.truman.edu/parker/research/cartoons.html"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4" descr=""/>
          <p:cNvPicPr/>
          <p:nvPr/>
        </p:nvPicPr>
        <p:blipFill>
          <a:blip r:embed="rId2"/>
          <a:stretch/>
        </p:blipFill>
        <p:spPr>
          <a:xfrm>
            <a:off x="530280" y="1365120"/>
            <a:ext cx="82962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a:t>
            </a:r>
            <a:r>
              <a:rPr b="0" lang="en-US" sz="2600" spc="-1" strike="noStrike">
                <a:solidFill>
                  <a:srgbClr val="ff0000"/>
                </a:solidFill>
                <a:latin typeface="Constantia"/>
              </a:rPr>
              <a:t>A Second Civil W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Pla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on vetoed both, congress overturn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gress passed 14th Amendment-protection/citizenshi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act of 1867-did not recognize state governments-except Tennesse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vided into 5 military distric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ates had to be grant 13th and 14th Amendments before returning to Union-Johnson tried to Vet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mpeachment</a:t>
            </a:r>
            <a:br>
              <a:rPr sz="4000"/>
            </a:br>
            <a:r>
              <a:rPr b="0" lang="en-US" sz="4000" spc="-1" strike="noStrike">
                <a:solidFill>
                  <a:srgbClr val="04617b"/>
                </a:solidFill>
                <a:latin typeface="Calibri"/>
              </a:rPr>
              <a:t>of President Johnson</a:t>
            </a:r>
            <a:endParaRPr b="0" lang="en-US" sz="4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tempts</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ollection of problems with him-didn’t pass House</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gry over blocking of Reconstruction legislation</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king for grounds for impeachment</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ure of Office Act-Edwin Stanton Sect. of War</a:t>
            </a:r>
            <a:endParaRPr b="0" lang="en-US" sz="20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ed to Replace with Grant</a:t>
            </a:r>
            <a:endParaRPr b="0" lang="en-US" sz="18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ed without Senate’s approval-Didn’t want all of Lincoln’s appointees replaced </a:t>
            </a:r>
            <a:endParaRPr b="0" lang="en-US" sz="18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use Impeached/Senate did not convict or remove</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dn’t want to set a preced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nstructing Reconstruction</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ased on the primary sources you have read, do you believe that Reconstruction was a success or failure?  Please be prepared to explain your answer.</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s of the Gilded Age</a:t>
            </a:r>
            <a:endParaRPr b="0" lang="en-US" sz="5000" spc="-1" strike="noStrike">
              <a:solidFill>
                <a:srgbClr val="04617b"/>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ra of Good Steal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68-Grant (R) elected, bar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70-Radicals pass 15th Amendment-Right to V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therners are more interested in getting beyond sectional conflicts then the “Southern Ques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didat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ratio Seymour (NY Gov) ran for democr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 ran on popularity-aligned w/ Radical Republica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vote very close, won most sta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Ter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est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ism came to mean fraud, corrup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Business had a great deal of influence-oil indust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eign Policy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 for Seward’s folly and ice box-7.2 Million for Biggest State-Alask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d to annex Santo Domingo, Dominican Republic-Congress would not go alo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2-”Anything But Grant”</a:t>
            </a:r>
            <a:endParaRPr b="0" lang="en-US" sz="4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s split, Charles Sumner in lead</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ried about Grantism at home and abroad “burden of the par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ed “liberal republican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did turnaround-Reconstruction is finished “bayonet rul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about civil service reform-bring best men into governmen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ruption was a bigger threat to the nation than confederate resurgenc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s supported Greeley who wanted leniency for ex-confeds but strict reconstruction policie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4" descr="Golden-Spike"/>
          <p:cNvPicPr/>
          <p:nvPr/>
        </p:nvPicPr>
        <p:blipFill>
          <a:blip r:embed="rId2"/>
          <a:stretch/>
        </p:blipFill>
        <p:spPr>
          <a:xfrm>
            <a:off x="762120" y="833400"/>
            <a:ext cx="7619760" cy="519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serious down turn in the economy that the country had ever seen to date.  It was one of a series of economic crises in the 19tha and 20th centuri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a:t>
            </a:r>
            <a:endParaRPr b="0" lang="en-US" sz="20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uched off by-September 18, 1873 when the Philadelphia banking firm Jay Cooke and Co. closed its doors and declared bankruptcy</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ailroad industry, at the time the nation’s largest employer outside of agriculture, involved large amount s of money and risk</a:t>
            </a: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ke’s firm provided the financing</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on Sept. 18th, the firm realized it had become overextended and declared bankruptc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mino effect caused the economy of US to collaps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ould you d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Analyzing the Post War situation, what is the wisest course of action to take?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large infusion of cash from speculators caused abnormal growth in industry.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s firm, like man others, were heavily invested in the railroad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 and other entrepreneurs had planned to build a second transcontinental railroad, called the Northern Pacific Railway (Golden Spike, UTA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YSE closed for 10 day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country’s 364 railroads, 89 went bankrup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otal of 18,000 businesses failed between 1873 and 187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mployment reached 1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Depression itself lifted in spring of 1879, the end of the crisis coincided with the beginning of the great wave of immigration into the United States which would last until the early 1920’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Beginning of the End</a:t>
            </a:r>
            <a:endParaRPr b="0" lang="en-US" sz="4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yes (Gov. of Ohio) nomin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on Southern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m Tilden (Gov. of N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fiscal conservatives (sound mon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vil service re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RutherFRAUD” B. Hayes</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omise of 187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lden won popular vote-Not enough Electoral vot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ed returns in SC and FL and 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s-challenged Ore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ublicans still controlled machine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ath of Reconstruc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rant’s election beginning of end</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rthern Military presence shrank</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2 Liberal Republican Revol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4 Democrats win House of Representatives</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became a political liability</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ath of Charles Sumner and Thaddeus Stevens loss of leadership</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bandonment of “Bloody-shirt” argumen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ck of “Carpet Bag Governmen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artoon-Purpos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satir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itorial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ucate</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5" descr="11215cs"/>
          <p:cNvPicPr/>
          <p:nvPr/>
        </p:nvPicPr>
        <p:blipFill>
          <a:blip r:embed="rId2"/>
          <a:stretch/>
        </p:blipFill>
        <p:spPr>
          <a:xfrm>
            <a:off x="914400" y="1676520"/>
            <a:ext cx="7238880" cy="4267080"/>
          </a:xfrm>
          <a:prstGeom prst="rect">
            <a:avLst/>
          </a:prstGeom>
          <a:ln w="0">
            <a:noFill/>
          </a:ln>
        </p:spPr>
      </p:pic>
      <p:sp>
        <p:nvSpPr>
          <p:cNvPr id="247" name="Text Box 6"/>
          <p:cNvSpPr/>
          <p:nvPr/>
        </p:nvSpPr>
        <p:spPr>
          <a:xfrm>
            <a:off x="1981080" y="45720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Theodore Gei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olitical Cartoons of Thomas Nast</a:t>
            </a:r>
            <a:endParaRPr b="0" lang="en-US" sz="4800" spc="-1" strike="noStrike">
              <a:solidFill>
                <a:srgbClr val="04617b"/>
              </a:solidFill>
              <a:latin typeface="Calibri"/>
            </a:endParaRPr>
          </a:p>
        </p:txBody>
      </p:sp>
      <p:pic>
        <p:nvPicPr>
          <p:cNvPr id="249" name="Picture 4" descr="nast"/>
          <p:cNvPicPr/>
          <p:nvPr/>
        </p:nvPicPr>
        <p:blipFill>
          <a:blip r:embed="rId2"/>
          <a:stretch/>
        </p:blipFill>
        <p:spPr>
          <a:xfrm>
            <a:off x="1981080" y="1752480"/>
            <a:ext cx="5105520" cy="388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Father of the Modern Caricature”</a:t>
            </a:r>
            <a:endParaRPr b="0" lang="en-US" sz="4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rn in Germ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ed “Harper’s Weekly” in 186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dical Republic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in support Reconstruction Amendments and further support of Reconstructionist poli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William “Boss” Tweed starting in 1868</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ac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Republican opponents in various elections, specifically 1864 and 1872.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Nast's cartoons was said to have re-elected Lincoln in 1864, and Lincoln himself commented that Nast was his best recruiting sergeant. Grant attributed his election as President in 1868 in part to Nast’s wor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Proclamation of Amnesty and Reconstruction 1863”</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Lenient plan. Must except emancipation and take oath</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support of Southern Unionis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Plan-of voters from 1860 election</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wear allegiance to union</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all Confederates</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ept high ranking officers and those who were accused of crimes against Prisoners of War, confederate government officials </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s were excluded from vote, couldn’t vote in 1860</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e Union as it was”</a:t>
            </a:r>
            <a:endParaRPr b="0" lang="en-US" sz="5000" spc="-1" strike="noStrike">
              <a:solidFill>
                <a:srgbClr val="04617b"/>
              </a:solidFill>
              <a:latin typeface="Calibri"/>
            </a:endParaRPr>
          </a:p>
        </p:txBody>
      </p:sp>
      <p:pic>
        <p:nvPicPr>
          <p:cNvPr id="255" name="Picture 5" descr="nast1"/>
          <p:cNvPicPr/>
          <p:nvPr/>
        </p:nvPicPr>
        <p:blipFill>
          <a:blip r:embed="rId2"/>
          <a:stretch/>
        </p:blipFill>
        <p:spPr>
          <a:xfrm>
            <a:off x="914400" y="1752480"/>
            <a:ext cx="743436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Emancipation”</a:t>
            </a:r>
            <a:endParaRPr b="0" lang="en-US" sz="5000" spc="-1" strike="noStrike">
              <a:solidFill>
                <a:srgbClr val="04617b"/>
              </a:solidFill>
              <a:latin typeface="Calibri"/>
            </a:endParaRPr>
          </a:p>
        </p:txBody>
      </p:sp>
      <p:pic>
        <p:nvPicPr>
          <p:cNvPr id="257" name="Picture 5" descr="nast3"/>
          <p:cNvPicPr/>
          <p:nvPr/>
        </p:nvPicPr>
        <p:blipFill>
          <a:blip r:embed="rId2"/>
          <a:stretch/>
        </p:blipFill>
        <p:spPr>
          <a:xfrm>
            <a:off x="1981080" y="1706400"/>
            <a:ext cx="57103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Injured black solider”</a:t>
            </a:r>
            <a:endParaRPr b="0" lang="en-US" sz="5000" spc="-1" strike="noStrike">
              <a:solidFill>
                <a:srgbClr val="04617b"/>
              </a:solidFill>
              <a:latin typeface="Calibri"/>
            </a:endParaRPr>
          </a:p>
        </p:txBody>
      </p:sp>
      <p:pic>
        <p:nvPicPr>
          <p:cNvPr id="259" name="Picture 5" descr="reconstrnast1"/>
          <p:cNvPicPr/>
          <p:nvPr/>
        </p:nvPicPr>
        <p:blipFill>
          <a:blip r:embed="rId2"/>
          <a:stretch/>
        </p:blipFill>
        <p:spPr>
          <a:xfrm>
            <a:off x="1447920" y="1828800"/>
            <a:ext cx="556236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The Freedmen and a Scalawag”</a:t>
            </a:r>
            <a:endParaRPr b="0" lang="en-US" sz="4000" spc="-1" strike="noStrike">
              <a:solidFill>
                <a:srgbClr val="04617b"/>
              </a:solidFill>
              <a:latin typeface="Calibri"/>
            </a:endParaRPr>
          </a:p>
        </p:txBody>
      </p:sp>
      <p:pic>
        <p:nvPicPr>
          <p:cNvPr id="261" name="Picture 5" descr="reconnaast2"/>
          <p:cNvPicPr/>
          <p:nvPr/>
        </p:nvPicPr>
        <p:blipFill>
          <a:blip r:embed="rId2"/>
          <a:stretch/>
        </p:blipFill>
        <p:spPr>
          <a:xfrm>
            <a:off x="1295280" y="1828800"/>
            <a:ext cx="5486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s </a:t>
            </a:r>
            <a:r>
              <a:rPr b="0" i="1" lang="en-US" sz="4000" spc="-1" strike="noStrike">
                <a:solidFill>
                  <a:srgbClr val="04617b"/>
                </a:solidFill>
                <a:latin typeface="Calibri"/>
              </a:rPr>
              <a:t>This</a:t>
            </a:r>
            <a:r>
              <a:rPr b="0" lang="en-US" sz="4000" spc="-1" strike="noStrike">
                <a:solidFill>
                  <a:srgbClr val="04617b"/>
                </a:solidFill>
                <a:latin typeface="Calibri"/>
              </a:rPr>
              <a:t> a Republican form of government?”</a:t>
            </a:r>
            <a:endParaRPr b="0" lang="en-US" sz="4000" spc="-1" strike="noStrike">
              <a:solidFill>
                <a:srgbClr val="04617b"/>
              </a:solidFill>
              <a:latin typeface="Calibri"/>
            </a:endParaRPr>
          </a:p>
        </p:txBody>
      </p:sp>
      <p:pic>
        <p:nvPicPr>
          <p:cNvPr id="263" name="Picture 5" descr="sf_nast_04"/>
          <p:cNvPicPr/>
          <p:nvPr/>
        </p:nvPicPr>
        <p:blipFill>
          <a:blip r:embed="rId2"/>
          <a:stretch/>
        </p:blipFill>
        <p:spPr>
          <a:xfrm>
            <a:off x="1143000" y="1828800"/>
            <a:ext cx="5181480" cy="41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One Less Vote”</a:t>
            </a:r>
            <a:endParaRPr b="0" lang="en-US" sz="5000" spc="-1" strike="noStrike">
              <a:solidFill>
                <a:srgbClr val="04617b"/>
              </a:solidFill>
              <a:latin typeface="Calibri"/>
            </a:endParaRPr>
          </a:p>
        </p:txBody>
      </p:sp>
      <p:pic>
        <p:nvPicPr>
          <p:cNvPr id="265" name="Picture 5" descr="One Less Vote"/>
          <p:cNvPicPr/>
          <p:nvPr/>
        </p:nvPicPr>
        <p:blipFill>
          <a:blip r:embed="rId2"/>
          <a:stretch/>
        </p:blipFill>
        <p:spPr>
          <a:xfrm>
            <a:off x="609480" y="2230560"/>
            <a:ext cx="6934320" cy="380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Let Us Prey”</a:t>
            </a:r>
            <a:endParaRPr b="0" lang="en-US" sz="5000" spc="-1" strike="noStrike">
              <a:solidFill>
                <a:srgbClr val="04617b"/>
              </a:solidFill>
              <a:latin typeface="Calibri"/>
            </a:endParaRPr>
          </a:p>
        </p:txBody>
      </p:sp>
      <p:pic>
        <p:nvPicPr>
          <p:cNvPr id="267" name="Picture 9" descr="nastvtweed1"/>
          <p:cNvPicPr/>
          <p:nvPr/>
        </p:nvPicPr>
        <p:blipFill>
          <a:blip r:embed="rId2"/>
          <a:stretch/>
        </p:blipFill>
        <p:spPr>
          <a:xfrm>
            <a:off x="914400" y="2116080"/>
            <a:ext cx="6248520" cy="405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at’s whats the Matter”</a:t>
            </a:r>
            <a:endParaRPr b="0" lang="en-US" sz="5000" spc="-1" strike="noStrike">
              <a:solidFill>
                <a:srgbClr val="04617b"/>
              </a:solidFill>
              <a:latin typeface="Calibri"/>
            </a:endParaRPr>
          </a:p>
        </p:txBody>
      </p:sp>
      <p:pic>
        <p:nvPicPr>
          <p:cNvPr id="269" name="Picture 5" descr="nastvtweed2"/>
          <p:cNvPicPr/>
          <p:nvPr/>
        </p:nvPicPr>
        <p:blipFill>
          <a:blip r:embed="rId2"/>
          <a:stretch/>
        </p:blipFill>
        <p:spPr>
          <a:xfrm>
            <a:off x="114300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Who’s to Blame?”</a:t>
            </a:r>
            <a:endParaRPr b="0" lang="en-US" sz="5000" spc="-1" strike="noStrike">
              <a:solidFill>
                <a:srgbClr val="04617b"/>
              </a:solidFill>
              <a:latin typeface="Calibri"/>
            </a:endParaRPr>
          </a:p>
        </p:txBody>
      </p:sp>
      <p:pic>
        <p:nvPicPr>
          <p:cNvPr id="271" name="Picture 6" descr="nast-tweed"/>
          <p:cNvPicPr/>
          <p:nvPr/>
        </p:nvPicPr>
        <p:blipFill>
          <a:blip r:embed="rId2"/>
          <a:stretch/>
        </p:blipFill>
        <p:spPr>
          <a:xfrm>
            <a:off x="533520" y="1836720"/>
            <a:ext cx="7543800" cy="38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Rectangle 4" descr=""/>
          <p:cNvPicPr/>
          <p:nvPr/>
        </p:nvPicPr>
        <p:blipFill>
          <a:blip r:embed="rId2"/>
          <a:stretch/>
        </p:blipFill>
        <p:spPr>
          <a:xfrm>
            <a:off x="73080" y="701640"/>
            <a:ext cx="8699400" cy="1150920"/>
          </a:xfrm>
          <a:prstGeom prst="rect">
            <a:avLst/>
          </a:prstGeom>
          <a:ln w="0">
            <a:noFill/>
          </a:ln>
        </p:spPr>
      </p:pic>
      <p:pic>
        <p:nvPicPr>
          <p:cNvPr id="273" name="Picture 14" descr="nastwmt"/>
          <p:cNvPicPr/>
          <p:nvPr/>
        </p:nvPicPr>
        <p:blipFill>
          <a:blip r:embed="rId3"/>
          <a:stretch/>
        </p:blipFill>
        <p:spPr>
          <a:xfrm>
            <a:off x="609480" y="198108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coln’s </a:t>
            </a:r>
            <a:br>
              <a:rPr sz="4500"/>
            </a:br>
            <a:r>
              <a:rPr b="0" lang="en-US" sz="4500" spc="-1" strike="noStrike">
                <a:solidFill>
                  <a:srgbClr val="04617b"/>
                </a:solidFill>
                <a:latin typeface="Calibri"/>
              </a:rPr>
              <a:t>Pl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f voters (1860 election) from states took oath-allowed 4 states back 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kansas, Louisiana, Tennessee and Virginia-congress refused to seat their deleg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 opposed, led by Sumner (MA) and Stevens (P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gress passed, over Lincoln, Wade-Davis bill-military governor rule each sta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lf eligible voters take oath-state convention to repeal secess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o the Voter goes the Spoils”</a:t>
            </a:r>
            <a:endParaRPr b="0" lang="en-US" sz="5000" spc="-1" strike="noStrike">
              <a:solidFill>
                <a:srgbClr val="04617b"/>
              </a:solidFill>
              <a:latin typeface="Calibri"/>
            </a:endParaRPr>
          </a:p>
        </p:txBody>
      </p:sp>
      <p:pic>
        <p:nvPicPr>
          <p:cNvPr id="275" name="Picture 8" descr="73568"/>
          <p:cNvPicPr/>
          <p:nvPr/>
        </p:nvPicPr>
        <p:blipFill>
          <a:blip r:embed="rId2"/>
          <a:stretch/>
        </p:blipFill>
        <p:spPr>
          <a:xfrm>
            <a:off x="457200" y="1905120"/>
            <a:ext cx="7391520" cy="4560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Boss Tweed on Thomas Nast </a:t>
            </a:r>
            <a:endParaRPr b="0" lang="en-US" sz="4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op them damn pictures. I don't care what the papers write about me. My constituents can't read. But, damn it, they can see the pictures." ---Boss Tweed</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 Slide</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csub.edu/~gsantos/cat15.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2.truman.edu/parker/research/cartoon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rfield and Arthur</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hur (Stalwart) and Garfield (Half-Bre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ine v. Conk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RONAGE IS THE GAME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he “Bloody” shirt in Election of 188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rfield assassinated by Guiteau (“I am a Stalw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s a great case for CIVIL SERVICE REFORM-Pendleton Civil Service A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aine-Cleveland-1884</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Ma...Ma…Where’s my Pa?”</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t>
            </a:r>
            <a:r>
              <a:rPr b="0" lang="en-US" sz="3000" spc="-1" strike="noStrike">
                <a:solidFill>
                  <a:srgbClr val="000000"/>
                </a:solidFill>
                <a:latin typeface="Constantia"/>
              </a:rPr>
              <a:t>He’s gone to the White House…Ha...Ha…Ha…”</a:t>
            </a:r>
            <a:endParaRPr b="0" lang="en-US" sz="30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Rum, Romanism and Rebellion”</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Know-Nothingesque slanders about Irish Americans gave Cleveland New York</a:t>
            </a:r>
            <a:endParaRPr b="0" lang="en-US" sz="3000" spc="-1" strike="noStrike">
              <a:solidFill>
                <a:srgbClr val="000000"/>
              </a:solidFill>
              <a:latin typeface="Constantia"/>
            </a:endParaRPr>
          </a:p>
          <a:p>
            <a:pPr marL="272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ly eligible voter or delegate if you took “ironclad” oath stating you never supported confederacy-would have made readmission impossible</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gress outraged by Lincoln’ pocket veto-ok, ok…I’ll be tougher on th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 by Herman Melville</a:t>
            </a:r>
            <a:endParaRPr b="0" lang="en-US" sz="5000" spc="-1" strike="noStrike">
              <a:solidFill>
                <a:srgbClr val="04617b"/>
              </a:solidFill>
              <a:latin typeface="Calibri"/>
            </a:endParaRPr>
          </a:p>
        </p:txBody>
      </p:sp>
      <p:sp>
        <p:nvSpPr>
          <p:cNvPr id="206" name=""/>
          <p:cNvSpPr txBox="1"/>
          <p:nvPr/>
        </p:nvSpPr>
        <p:spPr>
          <a:xfrm>
            <a:off x="457200" y="1920960"/>
            <a:ext cx="4038480" cy="443376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GOOD Friday was the day</a:t>
            </a:r>
            <a:br>
              <a:rPr sz="2000"/>
            </a:br>
            <a:r>
              <a:rPr b="0" lang="en-US" sz="2000" spc="-1" strike="noStrike">
                <a:solidFill>
                  <a:srgbClr val="ff0000"/>
                </a:solidFill>
                <a:latin typeface="Constantia"/>
              </a:rPr>
              <a:t>Of the prodigy and crime,</a:t>
            </a:r>
            <a:br>
              <a:rPr sz="2000"/>
            </a:br>
            <a:r>
              <a:rPr b="0" lang="en-US" sz="2000" spc="-1" strike="noStrike">
                <a:solidFill>
                  <a:srgbClr val="ff0000"/>
                </a:solidFill>
                <a:latin typeface="Constantia"/>
              </a:rPr>
              <a:t>When they killed him in his pity,</a:t>
            </a:r>
            <a:br>
              <a:rPr sz="2000"/>
            </a:br>
            <a:r>
              <a:rPr b="0" lang="en-US" sz="2000" spc="-1" strike="noStrike">
                <a:solidFill>
                  <a:srgbClr val="ff0000"/>
                </a:solidFill>
                <a:latin typeface="Constantia"/>
              </a:rPr>
              <a:t>When they killed him in his prime</a:t>
            </a:r>
            <a:br>
              <a:rPr sz="2000"/>
            </a:br>
            <a:r>
              <a:rPr b="0" lang="en-US" sz="2000" spc="-1" strike="noStrike">
                <a:solidFill>
                  <a:srgbClr val="ff0000"/>
                </a:solidFill>
                <a:latin typeface="Constantia"/>
              </a:rPr>
              <a:t>Of clemency and calm--</a:t>
            </a:r>
            <a:br>
              <a:rPr sz="2000"/>
            </a:br>
            <a:r>
              <a:rPr b="0" lang="en-US" sz="2000" spc="-1" strike="noStrike">
                <a:solidFill>
                  <a:srgbClr val="ff0000"/>
                </a:solidFill>
                <a:latin typeface="Constantia"/>
              </a:rPr>
              <a:t>When with yearning he was filled</a:t>
            </a:r>
            <a:br>
              <a:rPr sz="2000"/>
            </a:br>
            <a:r>
              <a:rPr b="0" lang="en-US" sz="2000" spc="-1" strike="noStrike">
                <a:solidFill>
                  <a:srgbClr val="ff0000"/>
                </a:solidFill>
                <a:latin typeface="Constantia"/>
              </a:rPr>
              <a:t>To redeem the evil-willed,</a:t>
            </a:r>
            <a:br>
              <a:rPr sz="2000"/>
            </a:br>
            <a:r>
              <a:rPr b="0" lang="en-US" sz="2000" spc="-1" strike="noStrike">
                <a:solidFill>
                  <a:srgbClr val="ff0000"/>
                </a:solidFill>
                <a:latin typeface="Constantia"/>
              </a:rPr>
              <a:t>And, though conqueror, be kind;</a:t>
            </a:r>
            <a:br>
              <a:rPr sz="2000"/>
            </a:br>
            <a:r>
              <a:rPr b="0" lang="en-US" sz="2000" spc="-1" strike="noStrike">
                <a:solidFill>
                  <a:srgbClr val="ff0000"/>
                </a:solidFill>
                <a:latin typeface="Constantia"/>
              </a:rPr>
              <a:t>But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they killed him from behind. </a:t>
            </a:r>
            <a:endParaRPr b="0" lang="en-US" sz="2000" spc="-1" strike="noStrike">
              <a:solidFill>
                <a:srgbClr val="000000"/>
              </a:solidFill>
              <a:latin typeface="Constantia"/>
            </a:endParaRPr>
          </a:p>
        </p:txBody>
      </p:sp>
      <p:sp>
        <p:nvSpPr>
          <p:cNvPr id="207"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There is sobbing of the strong,</a:t>
            </a:r>
            <a:br>
              <a:rPr sz="2400"/>
            </a:br>
            <a:r>
              <a:rPr b="0" lang="en-US" sz="2400" spc="-1" strike="noStrike">
                <a:solidFill>
                  <a:srgbClr val="ff0000"/>
                </a:solidFill>
                <a:latin typeface="Constantia"/>
              </a:rPr>
              <a:t>And a pall upon the land;</a:t>
            </a:r>
            <a:br>
              <a:rPr sz="2400"/>
            </a:br>
            <a:r>
              <a:rPr b="0" lang="en-US" sz="2400" spc="-1" strike="noStrike">
                <a:solidFill>
                  <a:srgbClr val="ff0000"/>
                </a:solidFill>
                <a:latin typeface="Constantia"/>
              </a:rPr>
              <a:t>But the People in their weeping</a:t>
            </a:r>
            <a:br>
              <a:rPr sz="2400"/>
            </a:br>
            <a:r>
              <a:rPr b="0" lang="en-US" sz="2400" spc="-1" strike="noStrike">
                <a:solidFill>
                  <a:srgbClr val="ff0000"/>
                </a:solidFill>
                <a:latin typeface="Constantia"/>
              </a:rPr>
              <a:t>Bare the iron hand:</a:t>
            </a:r>
            <a:br>
              <a:rPr sz="2400"/>
            </a:br>
            <a:r>
              <a:rPr b="0" lang="en-US" sz="2400" spc="-1" strike="noStrike">
                <a:solidFill>
                  <a:srgbClr val="ff0000"/>
                </a:solidFill>
                <a:latin typeface="Constantia"/>
              </a:rPr>
              <a:t>Beware the People weeping</a:t>
            </a:r>
            <a:br>
              <a:rPr sz="2400"/>
            </a:br>
            <a:r>
              <a:rPr b="0" lang="en-US" sz="24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He lieth in his blood--</a:t>
            </a:r>
            <a:br>
              <a:rPr sz="2000"/>
            </a:br>
            <a:r>
              <a:rPr b="0" lang="en-US" sz="2000" spc="-1" strike="noStrike">
                <a:solidFill>
                  <a:srgbClr val="ff0000"/>
                </a:solidFill>
                <a:latin typeface="Constantia"/>
              </a:rPr>
              <a:t>The father in his face;</a:t>
            </a:r>
            <a:br>
              <a:rPr sz="2000"/>
            </a:br>
            <a:r>
              <a:rPr b="0" lang="en-US" sz="2000" spc="-1" strike="noStrike">
                <a:solidFill>
                  <a:srgbClr val="ff0000"/>
                </a:solidFill>
                <a:latin typeface="Constantia"/>
              </a:rPr>
              <a:t>They have killed him, the Forgiver--</a:t>
            </a:r>
            <a:br>
              <a:rPr sz="2000"/>
            </a:br>
            <a:r>
              <a:rPr b="0" lang="en-US" sz="2000" spc="-1" strike="noStrike">
                <a:solidFill>
                  <a:srgbClr val="ff0000"/>
                </a:solidFill>
                <a:latin typeface="Constantia"/>
              </a:rPr>
              <a:t>The Avenger takes his place,</a:t>
            </a:r>
            <a:br>
              <a:rPr sz="2000"/>
            </a:br>
            <a:r>
              <a:rPr b="0" lang="en-US" sz="2000" spc="-1" strike="noStrike">
                <a:solidFill>
                  <a:srgbClr val="ff0000"/>
                </a:solidFill>
                <a:latin typeface="Constantia"/>
              </a:rPr>
              <a:t>The Avenger wisely stern,</a:t>
            </a:r>
            <a:br>
              <a:rPr sz="2000"/>
            </a:br>
            <a:r>
              <a:rPr b="0" lang="en-US" sz="2000" spc="-1" strike="noStrike">
                <a:solidFill>
                  <a:srgbClr val="ff0000"/>
                </a:solidFill>
                <a:latin typeface="Constantia"/>
              </a:rPr>
              <a:t>Who in righteousness shall do</a:t>
            </a:r>
            <a:br>
              <a:rPr sz="2000"/>
            </a:br>
            <a:r>
              <a:rPr b="0" lang="en-US" sz="2000" spc="-1" strike="noStrike">
                <a:solidFill>
                  <a:srgbClr val="ff0000"/>
                </a:solidFill>
                <a:latin typeface="Constantia"/>
              </a:rPr>
              <a:t>What the heavens call him to,</a:t>
            </a:r>
            <a:br>
              <a:rPr sz="2000"/>
            </a:br>
            <a:r>
              <a:rPr b="0" lang="en-US" sz="2000" spc="-1" strike="noStrike">
                <a:solidFill>
                  <a:srgbClr val="ff0000"/>
                </a:solidFill>
                <a:latin typeface="Constantia"/>
              </a:rPr>
              <a:t>And the parricides remand;</a:t>
            </a:r>
            <a:br>
              <a:rPr sz="2000"/>
            </a:br>
            <a:r>
              <a:rPr b="0" lang="en-US" sz="2000" spc="-1" strike="noStrike">
                <a:solidFill>
                  <a:srgbClr val="ff0000"/>
                </a:solidFill>
                <a:latin typeface="Constantia"/>
              </a:rPr>
              <a:t>For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his blood is on their hand.</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10"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re is sobbing of the strong,</a:t>
            </a:r>
            <a:br>
              <a:rPr sz="2600"/>
            </a:br>
            <a:r>
              <a:rPr b="0" lang="en-US" sz="2600" spc="-1" strike="noStrike">
                <a:solidFill>
                  <a:srgbClr val="ff0000"/>
                </a:solidFill>
                <a:latin typeface="Constantia"/>
              </a:rPr>
              <a:t>And a pall upon the land;</a:t>
            </a:r>
            <a:br>
              <a:rPr sz="2600"/>
            </a:br>
            <a:r>
              <a:rPr b="0" lang="en-US" sz="2600" spc="-1" strike="noStrike">
                <a:solidFill>
                  <a:srgbClr val="ff0000"/>
                </a:solidFill>
                <a:latin typeface="Constantia"/>
              </a:rPr>
              <a:t>But the People in their weeping</a:t>
            </a:r>
            <a:br>
              <a:rPr sz="2600"/>
            </a:br>
            <a:r>
              <a:rPr b="0" lang="en-US" sz="2600" spc="-1" strike="noStrike">
                <a:solidFill>
                  <a:srgbClr val="ff0000"/>
                </a:solidFill>
                <a:latin typeface="Constantia"/>
              </a:rPr>
              <a:t>Bare the iron hand:</a:t>
            </a:r>
            <a:br>
              <a:rPr sz="2600"/>
            </a:br>
            <a:r>
              <a:rPr b="0" lang="en-US" sz="2600" spc="-1" strike="noStrike">
                <a:solidFill>
                  <a:srgbClr val="ff0000"/>
                </a:solidFill>
                <a:latin typeface="Constantia"/>
              </a:rPr>
              <a:t>Beware the People weeping</a:t>
            </a:r>
            <a:br>
              <a:rPr sz="2600"/>
            </a:br>
            <a:r>
              <a:rPr b="0" lang="en-US" sz="26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ohnson’s Pla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Planter’s power</a:t>
            </a:r>
            <a:endParaRPr b="0" lang="en-US" sz="24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f-educated, hated rich southerners</a:t>
            </a:r>
            <a:endParaRPr b="0" lang="en-US" sz="22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hnson was a poor southerner (Tailor)</a:t>
            </a:r>
            <a:endParaRPr b="0" lang="en-US" sz="22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pledge allegiance, pardon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 13th Amendment</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clude high ranking confederates and disqualified planters who owned land over $20,000</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13,000 confederates liberally-Wrote to him personally</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White men should still managed south”-Poor whites in control</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more states, all but Texas, would have been except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o antebellum south, “Black co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Reconstruction</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to go further than both plans sugges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see Eye to Eye with Presidents’ pla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 power from Executive to Congressi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like Johnson Politically-He Was a DEMOCR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ion of 1866-Mid term-Radical Republicans got more pow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 of 186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d in the Civil Rights Act were the rights to: make contracts, sue, bear witness in court and own private property</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tizenship and forbade discrimination laws “black co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34:12Z</dcterms:created>
  <dc:creator>tbabcock</dc:creator>
  <dc:description/>
  <dc:language>en-US</dc:language>
  <cp:lastModifiedBy>tbabcock</cp:lastModifiedBy>
  <dcterms:modified xsi:type="dcterms:W3CDTF">2010-02-01T15:22:29Z</dcterms:modified>
  <cp:revision>56</cp:revision>
  <dc:subject/>
  <dc:title>Political Cartoons</dc:title>
</cp:coreProperties>
</file>