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6.jpeg" ContentType="image/jpe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CB067-FAF8-40E2-987F-9287A14BF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60ED5-54DB-4E50-9C2E-11F23784B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99EDE-C6BD-4446-9DD1-0548096EC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8DC3E-94F8-4B64-AD75-63EBC5B1B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73DA3-8B6C-4E34-A561-D3D27992F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04003-FF50-4483-AC01-2232F6C5E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A3B01-AD51-4A9A-81C1-7BC77FBD3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C9791-E7EC-47C9-A37F-CBDCB1705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49ECE-EFFD-43AC-90A8-D540FE9AA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531AD-D0A7-4FF3-A7E5-1FFC14395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D5D76-CAD1-42B3-8CD8-E53D42DDA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1DE94-F2D8-4A38-8283-10D722A44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19361-0A30-4BEE-8484-78BE32F92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1F545-4042-447C-AD6D-8E71D0F3E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B39E3-120B-4A0D-BD19-CE05EC242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0427F-9799-4B96-BDB6-0D148B93B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8C36B-72F7-41A8-B75B-F13F198FA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648520-263F-4765-ADAB-6A59F9ED16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DD4B8-F946-4D1F-8F06-682F9653D7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A9A12-FC27-4A35-BBBB-925AB7EC8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58630-44DB-4271-8DB0-ADA94D033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C048AC-D1AD-43F7-A68C-57806A1922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D3E64-9D11-4886-BDD6-1DD0C6DC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A5044-96A6-44AA-BC59-1A211EA4F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073CB-79A3-4F68-8358-9FDC6BA7C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33257-EA28-42F0-B0DB-5CBA57D33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DD7DD1-270B-44FC-8658-0498533F5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799433-EB2F-4437-9CAB-966CA5F840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6A9C5F-ED4C-4EF5-9276-4EF9C970F0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47CAB3-3560-4A2F-9C3C-A30E41E2C0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63CA98-1094-4920-9F26-9BFF1A5AE5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C255C4-C0CE-4B2C-B30C-C47E72FB8C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75CF6-44C9-4417-B316-3A75746BD7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52CCA-B7E2-4122-A066-3B67F4375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171309-4C1E-4C32-B715-E5CEE38608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D01F89-48E6-4E1C-BC25-5A5200C9D1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45273-C65D-4ED3-BC2D-164B59A47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AE580-2092-4754-8A69-BD1C893F23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80EE7-7054-432A-977E-F8499FAF3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6F9DC-54DF-4B69-B1C5-17145108B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D7C86-EE32-40C1-B121-A201B6533A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CB5191-E529-4CE1-8DA4-F5931CF876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E70C1-637B-4BB3-9E5B-3F948DC862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B6169-8298-4BB8-BCE0-A820D9478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9C347-5FCE-4667-94B2-72389E89E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9211E-8187-4414-98BF-533325BC6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8030A-3065-4E3D-9EC6-9B7ACB737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5D33F-753C-4B2D-A86C-BB90BF9D8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FDE9-89B6-49A7-A433-E8AB6FF5B6E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25BB-BD4B-421B-B4B2-0AB24408614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20BC-99E6-4A77-9A3D-916DC36D5FA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E0D6-1AC1-4195-911F-BA7AE9D1C04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csub.edu/~gsantos/cat15.html" TargetMode="External"/><Relationship Id="rId3" Type="http://schemas.openxmlformats.org/officeDocument/2006/relationships/hyperlink" Target="http://www2.truman.edu/parker/research/cartoons.html" TargetMode="Externa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4" descr=""/>
          <p:cNvPicPr/>
          <p:nvPr/>
        </p:nvPicPr>
        <p:blipFill>
          <a:blip r:embed="rId2"/>
          <a:stretch/>
        </p:blipFill>
        <p:spPr>
          <a:xfrm>
            <a:off x="530280" y="1365120"/>
            <a:ext cx="82962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a:t>
            </a:r>
            <a:r>
              <a:rPr b="0" lang="en-US" sz="2600" spc="-1" strike="noStrike">
                <a:solidFill>
                  <a:srgbClr val="ff0000"/>
                </a:solidFill>
                <a:latin typeface="Constantia"/>
              </a:rPr>
              <a:t>A Second Civil Wa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Plan</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Johnson vetoed both, congress overturn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gress passed 14th Amendment-protection/citizenship</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act of 1867-did not recognize state governments-except Tennesse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vided into 5 military distric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ates had to be grant 13th and 14th Amendments before returning to Union-Johnson tried to Vet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mpeachment</a:t>
            </a:r>
            <a:br>
              <a:rPr sz="4000"/>
            </a:br>
            <a:r>
              <a:rPr b="0" lang="en-US" sz="4000" spc="-1" strike="noStrike">
                <a:solidFill>
                  <a:srgbClr val="04617b"/>
                </a:solidFill>
                <a:latin typeface="Calibri"/>
              </a:rPr>
              <a:t>of President Johnson</a:t>
            </a:r>
            <a:endParaRPr b="0" lang="en-US" sz="4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attempts</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rst collection of problems with him-didn’t pass House</a:t>
            </a:r>
            <a:endParaRPr b="0" lang="en-US" sz="2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gry over blocking of Reconstruction legislation</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oking for grounds for impeachment</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nure of Office Act-Edwin Stanton Sect. of War</a:t>
            </a:r>
            <a:endParaRPr b="0" lang="en-US" sz="20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anted to Replace with Grant</a:t>
            </a:r>
            <a:endParaRPr b="0" lang="en-US" sz="1800" spc="-1" strike="noStrike">
              <a:solidFill>
                <a:srgbClr val="000000"/>
              </a:solidFill>
              <a:latin typeface="Constantia"/>
            </a:endParaRPr>
          </a:p>
          <a:p>
            <a:pPr lvl="3" marL="1187280" indent="-20952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ed without Senate’s approval-Didn’t want all of Lincoln’s appointees replaced </a:t>
            </a:r>
            <a:endParaRPr b="0" lang="en-US" sz="18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use Impeached/Senate did not convict or remove</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dn’t want to set a preced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nstructing Reconstruction</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5000"/>
          </a:bodyPr>
          <a:p>
            <a:pPr marL="259200" indent="-259200" algn="ct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Based on the primary sources you have read, do you believe that Reconstruction was a success or failure?  Please be prepared to explain your answer.</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130120"/>
            <a:ext cx="7772400" cy="1469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s of the Gilded Age</a:t>
            </a:r>
            <a:endParaRPr b="0" lang="en-US" sz="5000" spc="-1" strike="noStrike">
              <a:solidFill>
                <a:srgbClr val="04617b"/>
              </a:solidFill>
              <a:latin typeface="Calibri"/>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Era of Good Steal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68-Grant (R) elected, bar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70-Radicals pass 15th Amendment-Right to Vo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rtherners are more interested in getting beyond sectional conflicts then the “Southern Ques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ion of 1868</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didate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ratio Seymour (NY Gov) ran for democra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 ran on popularity-aligned w/ Radical Republican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pular vote very close, won most stat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Term</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mest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ntism came to mean fraud, corrup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g Business had a great deal of influence-oil industri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eign Policy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port for Seward’s folly and ice box-7.2 Million for Biggest State-Alask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ied to annex Santo Domingo, Dominican Republic-Congress would not go alo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2-”Anything But Grant”</a:t>
            </a:r>
            <a:endParaRPr b="0" lang="en-US" sz="4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s split, Charles Sumner in lead</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ried about Grantism at home and abroad “burden of the part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med “liberal republican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did turnaround-Reconstruction is finished “bayonet rul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ing about civil service reform-bring best men into governmen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rruption was a bigger threat to the nation than confederate resurgence</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s supported Greeley who wanted leniency for ex-confeds but strict reconstruction policie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Picture 4" descr="Golden-Spike"/>
          <p:cNvPicPr/>
          <p:nvPr/>
        </p:nvPicPr>
        <p:blipFill>
          <a:blip r:embed="rId2"/>
          <a:stretch/>
        </p:blipFill>
        <p:spPr>
          <a:xfrm>
            <a:off x="762120" y="833400"/>
            <a:ext cx="7619760" cy="5191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ost serious down turn in the economy that the country had ever seen to date.  It was one of a series of economic crises in the 19tha and 20th centuri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uses:</a:t>
            </a:r>
            <a:endParaRPr b="0" lang="en-US" sz="20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uched off by-September 18, 1873 when the Philadelphia banking firm Jay Cooke and Co. closed its doors and declared bankruptcy</a:t>
            </a: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ailroad industry, at the time the nation’s largest employer outside of agriculture, involved large amount s of money and risk</a:t>
            </a:r>
            <a:endParaRPr b="0" lang="en-US" sz="18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oke’s firm provided the financing</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on Sept. 18th, the firm realized it had become overextended and declared bankruptcy.</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mino effect caused the economy of US to collaps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would you d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nstantia"/>
              </a:rPr>
              <a:t>Analyzing the Post War situation, what is the wisest course of action to take?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large infusion of cash from speculators caused abnormal growth in industry.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s firm, like man others, were heavily invested in the railroad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e and other entrepreneurs had planned to build a second transcontinental railroad, called the Northern Pacific Railway (Golden Spike, UTAH)</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nic of 1873</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YSE closed for 10 day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country’s 364 railroads, 89 went bankrup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total of 18,000 businesses failed between 1873 and 1875</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employment reached 14%</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Depression itself lifted in spring of 1879, the end of the crisis coincided with the beginning of the great wave of immigration into the United States which would last until the early 1920’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Beginning of the End</a:t>
            </a:r>
            <a:endParaRPr b="0" lang="en-US" sz="4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yes (Gov. of Ohio) nomina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ate on Southern Poli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am Tilden (Gov. of NJ)</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on-fiscal conservatives (sound mone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ivil service refor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Election of 1876-”RutherFRAUD” B. Hayes</a:t>
            </a:r>
            <a:endParaRPr b="0" lang="en-US" sz="4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romise of 187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lden won popular vote-Not enough Electoral vot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llenged returns in SC and FL and 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os-challenged Oreg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publicans still controlled machiner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ath of Reconstruction</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rant’s election beginning of end</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rthern Military presence shrank</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2 Liberal Republican Revol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874 Democrats win House of Representatives</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nstruction became a political liability</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ath of Charles Sumner and Thaddeus Stevens loss of leadership</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bandonment of “Bloody-shirt” argument</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ck of “Carpet Bag Governmen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al Cartoon-Purpos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satir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itorialize</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o educate</a:t>
            </a: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Picture 5" descr="11215cs"/>
          <p:cNvPicPr/>
          <p:nvPr/>
        </p:nvPicPr>
        <p:blipFill>
          <a:blip r:embed="rId2"/>
          <a:stretch/>
        </p:blipFill>
        <p:spPr>
          <a:xfrm>
            <a:off x="914400" y="1676520"/>
            <a:ext cx="7238880" cy="4267080"/>
          </a:xfrm>
          <a:prstGeom prst="rect">
            <a:avLst/>
          </a:prstGeom>
          <a:ln w="0">
            <a:noFill/>
          </a:ln>
        </p:spPr>
      </p:pic>
      <p:sp>
        <p:nvSpPr>
          <p:cNvPr id="247" name="Text Box 6"/>
          <p:cNvSpPr/>
          <p:nvPr/>
        </p:nvSpPr>
        <p:spPr>
          <a:xfrm>
            <a:off x="1981080" y="457200"/>
            <a:ext cx="480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Theodore Geis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olitical Cartoons of Thomas Nast</a:t>
            </a:r>
            <a:endParaRPr b="0" lang="en-US" sz="4800" spc="-1" strike="noStrike">
              <a:solidFill>
                <a:srgbClr val="04617b"/>
              </a:solidFill>
              <a:latin typeface="Calibri"/>
            </a:endParaRPr>
          </a:p>
        </p:txBody>
      </p:sp>
      <p:pic>
        <p:nvPicPr>
          <p:cNvPr id="249" name="Picture 4" descr="nast"/>
          <p:cNvPicPr/>
          <p:nvPr/>
        </p:nvPicPr>
        <p:blipFill>
          <a:blip r:embed="rId2"/>
          <a:stretch/>
        </p:blipFill>
        <p:spPr>
          <a:xfrm>
            <a:off x="1981080" y="1752480"/>
            <a:ext cx="5105520" cy="388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Father of the Modern Caricature”</a:t>
            </a:r>
            <a:endParaRPr b="0" lang="en-US" sz="4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rn in German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oined “Harper’s Weekly” in 186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Radical Republic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in support Reconstruction Amendments and further support of Reconstructionist polic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William “Boss” Tweed starting in 1868</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mpac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orked against Republican opponents in various elections, specifically 1864 and 1872.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Nast's cartoons was said to have re-elected Lincoln in 1864, and Lincoln himself commented that Nast was his best recruiting sergeant. Grant attributed his election as President in 1868 in part to Nast’s work.</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Proclamation of Amnesty and Reconstruction 1863”</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ry Lenient plan. Must except emancipation and take oath</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support of Southern Unionist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Plan-of voters from 1860 election</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wear allegiance to union</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all Confederates</a:t>
            </a:r>
            <a:endParaRPr b="0" lang="en-US" sz="2400" spc="-1" strike="noStrike">
              <a:solidFill>
                <a:srgbClr val="000000"/>
              </a:solidFill>
              <a:latin typeface="Constantia"/>
            </a:endParaRPr>
          </a:p>
          <a:p>
            <a:pPr lvl="1" marL="713160" indent="-274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cept high ranking officers and those who were accused of crimes against Prisoners of War, confederate government officials </a:t>
            </a:r>
            <a:endParaRPr b="0" lang="en-US" sz="22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s were excluded from vote, couldn’t vote in 1860</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e Union as it was”</a:t>
            </a:r>
            <a:endParaRPr b="0" lang="en-US" sz="5000" spc="-1" strike="noStrike">
              <a:solidFill>
                <a:srgbClr val="04617b"/>
              </a:solidFill>
              <a:latin typeface="Calibri"/>
            </a:endParaRPr>
          </a:p>
        </p:txBody>
      </p:sp>
      <p:pic>
        <p:nvPicPr>
          <p:cNvPr id="255" name="Picture 5" descr="nast1"/>
          <p:cNvPicPr/>
          <p:nvPr/>
        </p:nvPicPr>
        <p:blipFill>
          <a:blip r:embed="rId2"/>
          <a:stretch/>
        </p:blipFill>
        <p:spPr>
          <a:xfrm>
            <a:off x="914400" y="1752480"/>
            <a:ext cx="7434360" cy="4956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Emancipation”</a:t>
            </a:r>
            <a:endParaRPr b="0" lang="en-US" sz="5000" spc="-1" strike="noStrike">
              <a:solidFill>
                <a:srgbClr val="04617b"/>
              </a:solidFill>
              <a:latin typeface="Calibri"/>
            </a:endParaRPr>
          </a:p>
        </p:txBody>
      </p:sp>
      <p:pic>
        <p:nvPicPr>
          <p:cNvPr id="257" name="Picture 5" descr="nast3"/>
          <p:cNvPicPr/>
          <p:nvPr/>
        </p:nvPicPr>
        <p:blipFill>
          <a:blip r:embed="rId2"/>
          <a:stretch/>
        </p:blipFill>
        <p:spPr>
          <a:xfrm>
            <a:off x="1981080" y="1706400"/>
            <a:ext cx="57103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Injured black solider”</a:t>
            </a:r>
            <a:endParaRPr b="0" lang="en-US" sz="5000" spc="-1" strike="noStrike">
              <a:solidFill>
                <a:srgbClr val="04617b"/>
              </a:solidFill>
              <a:latin typeface="Calibri"/>
            </a:endParaRPr>
          </a:p>
        </p:txBody>
      </p:sp>
      <p:pic>
        <p:nvPicPr>
          <p:cNvPr id="259" name="Picture 5" descr="reconstrnast1"/>
          <p:cNvPicPr/>
          <p:nvPr/>
        </p:nvPicPr>
        <p:blipFill>
          <a:blip r:embed="rId2"/>
          <a:stretch/>
        </p:blipFill>
        <p:spPr>
          <a:xfrm>
            <a:off x="1447920" y="1828800"/>
            <a:ext cx="5562360" cy="445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The Freedmen and a Scalawag”</a:t>
            </a:r>
            <a:endParaRPr b="0" lang="en-US" sz="4000" spc="-1" strike="noStrike">
              <a:solidFill>
                <a:srgbClr val="04617b"/>
              </a:solidFill>
              <a:latin typeface="Calibri"/>
            </a:endParaRPr>
          </a:p>
        </p:txBody>
      </p:sp>
      <p:pic>
        <p:nvPicPr>
          <p:cNvPr id="261" name="Picture 5" descr="reconnaast2"/>
          <p:cNvPicPr/>
          <p:nvPr/>
        </p:nvPicPr>
        <p:blipFill>
          <a:blip r:embed="rId2"/>
          <a:stretch/>
        </p:blipFill>
        <p:spPr>
          <a:xfrm>
            <a:off x="1295280" y="1828800"/>
            <a:ext cx="548640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Is </a:t>
            </a:r>
            <a:r>
              <a:rPr b="0" i="1" lang="en-US" sz="4000" spc="-1" strike="noStrike">
                <a:solidFill>
                  <a:srgbClr val="04617b"/>
                </a:solidFill>
                <a:latin typeface="Calibri"/>
              </a:rPr>
              <a:t>This</a:t>
            </a:r>
            <a:r>
              <a:rPr b="0" lang="en-US" sz="4000" spc="-1" strike="noStrike">
                <a:solidFill>
                  <a:srgbClr val="04617b"/>
                </a:solidFill>
                <a:latin typeface="Calibri"/>
              </a:rPr>
              <a:t> a Republican form of government?”</a:t>
            </a:r>
            <a:endParaRPr b="0" lang="en-US" sz="4000" spc="-1" strike="noStrike">
              <a:solidFill>
                <a:srgbClr val="04617b"/>
              </a:solidFill>
              <a:latin typeface="Calibri"/>
            </a:endParaRPr>
          </a:p>
        </p:txBody>
      </p:sp>
      <p:pic>
        <p:nvPicPr>
          <p:cNvPr id="263" name="Picture 5" descr="sf_nast_04"/>
          <p:cNvPicPr/>
          <p:nvPr/>
        </p:nvPicPr>
        <p:blipFill>
          <a:blip r:embed="rId2"/>
          <a:stretch/>
        </p:blipFill>
        <p:spPr>
          <a:xfrm>
            <a:off x="1143000" y="1828800"/>
            <a:ext cx="5181480" cy="414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One Less Vote”</a:t>
            </a:r>
            <a:endParaRPr b="0" lang="en-US" sz="5000" spc="-1" strike="noStrike">
              <a:solidFill>
                <a:srgbClr val="04617b"/>
              </a:solidFill>
              <a:latin typeface="Calibri"/>
            </a:endParaRPr>
          </a:p>
        </p:txBody>
      </p:sp>
      <p:pic>
        <p:nvPicPr>
          <p:cNvPr id="265" name="Picture 5" descr="One Less Vote"/>
          <p:cNvPicPr/>
          <p:nvPr/>
        </p:nvPicPr>
        <p:blipFill>
          <a:blip r:embed="rId2"/>
          <a:stretch/>
        </p:blipFill>
        <p:spPr>
          <a:xfrm>
            <a:off x="609480" y="2230560"/>
            <a:ext cx="6934320" cy="3800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Let Us Prey”</a:t>
            </a:r>
            <a:endParaRPr b="0" lang="en-US" sz="5000" spc="-1" strike="noStrike">
              <a:solidFill>
                <a:srgbClr val="04617b"/>
              </a:solidFill>
              <a:latin typeface="Calibri"/>
            </a:endParaRPr>
          </a:p>
        </p:txBody>
      </p:sp>
      <p:pic>
        <p:nvPicPr>
          <p:cNvPr id="267" name="Picture 9" descr="nastvtweed1"/>
          <p:cNvPicPr/>
          <p:nvPr/>
        </p:nvPicPr>
        <p:blipFill>
          <a:blip r:embed="rId2"/>
          <a:stretch/>
        </p:blipFill>
        <p:spPr>
          <a:xfrm>
            <a:off x="914400" y="2116080"/>
            <a:ext cx="6248520" cy="405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hat’s whats the Matter”</a:t>
            </a:r>
            <a:endParaRPr b="0" lang="en-US" sz="5000" spc="-1" strike="noStrike">
              <a:solidFill>
                <a:srgbClr val="04617b"/>
              </a:solidFill>
              <a:latin typeface="Calibri"/>
            </a:endParaRPr>
          </a:p>
        </p:txBody>
      </p:sp>
      <p:pic>
        <p:nvPicPr>
          <p:cNvPr id="269" name="Picture 5" descr="nastvtweed2"/>
          <p:cNvPicPr/>
          <p:nvPr/>
        </p:nvPicPr>
        <p:blipFill>
          <a:blip r:embed="rId2"/>
          <a:stretch/>
        </p:blipFill>
        <p:spPr>
          <a:xfrm>
            <a:off x="1143000" y="190512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Who’s to Blame?”</a:t>
            </a:r>
            <a:endParaRPr b="0" lang="en-US" sz="5000" spc="-1" strike="noStrike">
              <a:solidFill>
                <a:srgbClr val="04617b"/>
              </a:solidFill>
              <a:latin typeface="Calibri"/>
            </a:endParaRPr>
          </a:p>
        </p:txBody>
      </p:sp>
      <p:pic>
        <p:nvPicPr>
          <p:cNvPr id="271" name="Picture 6" descr="nast-tweed"/>
          <p:cNvPicPr/>
          <p:nvPr/>
        </p:nvPicPr>
        <p:blipFill>
          <a:blip r:embed="rId2"/>
          <a:stretch/>
        </p:blipFill>
        <p:spPr>
          <a:xfrm>
            <a:off x="533520" y="1836720"/>
            <a:ext cx="7543800" cy="388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Rectangle 4" descr=""/>
          <p:cNvPicPr/>
          <p:nvPr/>
        </p:nvPicPr>
        <p:blipFill>
          <a:blip r:embed="rId2"/>
          <a:stretch/>
        </p:blipFill>
        <p:spPr>
          <a:xfrm>
            <a:off x="73080" y="701640"/>
            <a:ext cx="8699400" cy="1150920"/>
          </a:xfrm>
          <a:prstGeom prst="rect">
            <a:avLst/>
          </a:prstGeom>
          <a:ln w="0">
            <a:noFill/>
          </a:ln>
        </p:spPr>
      </p:pic>
      <p:pic>
        <p:nvPicPr>
          <p:cNvPr id="273" name="Picture 14" descr="nastwmt"/>
          <p:cNvPicPr/>
          <p:nvPr/>
        </p:nvPicPr>
        <p:blipFill>
          <a:blip r:embed="rId3"/>
          <a:stretch/>
        </p:blipFill>
        <p:spPr>
          <a:xfrm>
            <a:off x="609480" y="198108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ncoln’s </a:t>
            </a:r>
            <a:br>
              <a:rPr sz="4500"/>
            </a:br>
            <a:r>
              <a:rPr b="0" lang="en-US" sz="4500" spc="-1" strike="noStrike">
                <a:solidFill>
                  <a:srgbClr val="04617b"/>
                </a:solidFill>
                <a:latin typeface="Calibri"/>
              </a:rPr>
              <a:t>Plan</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of voters (1860 election) from states took oath-allowed 4 states back i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kansas, Louisiana, Tennessee and Virginia-congress refused to seat their delegat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cal Republican opposed, led by Sumner (MA) and Stevens (P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gress passed, over Lincoln, Wade-Davis bill-military governor rule each stat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lf eligible voters take oath-state convention to repeal secess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t>
            </a:r>
            <a:r>
              <a:rPr b="0" lang="en-US" sz="5000" spc="-1" strike="noStrike">
                <a:solidFill>
                  <a:srgbClr val="04617b"/>
                </a:solidFill>
                <a:latin typeface="Calibri"/>
              </a:rPr>
              <a:t>To the Voter goes the Spoils”</a:t>
            </a:r>
            <a:endParaRPr b="0" lang="en-US" sz="5000" spc="-1" strike="noStrike">
              <a:solidFill>
                <a:srgbClr val="04617b"/>
              </a:solidFill>
              <a:latin typeface="Calibri"/>
            </a:endParaRPr>
          </a:p>
        </p:txBody>
      </p:sp>
      <p:pic>
        <p:nvPicPr>
          <p:cNvPr id="275" name="Picture 8" descr="73568"/>
          <p:cNvPicPr/>
          <p:nvPr/>
        </p:nvPicPr>
        <p:blipFill>
          <a:blip r:embed="rId2"/>
          <a:stretch/>
        </p:blipFill>
        <p:spPr>
          <a:xfrm>
            <a:off x="457200" y="1905120"/>
            <a:ext cx="7391520" cy="4560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4617b"/>
                </a:solidFill>
                <a:latin typeface="Calibri"/>
              </a:rPr>
              <a:t>Boss Tweed on Thomas Nast </a:t>
            </a:r>
            <a:endParaRPr b="0" lang="en-US" sz="4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Stop them damn pictures. I don't care what the papers write about me. My constituents can't read. But, damn it, they can see the pictures." ---Boss Tweed</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itation Slide</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www.csub.edu/~gsantos/cat15.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3"/>
              </a:rPr>
              <a:t>http://www2.truman.edu/parker/research/cartoons.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rfield and Arthur</a:t>
            </a: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thur (Stalwart) and Garfield (Half-Bree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ine v. Conkl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RONAGE IS THE GAME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the “Bloody” shirt in Election of 188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rfield assassinated by Guiteau (“I am a Stalw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s a great case for CIVIL SERVICE REFORM-Pendleton Civil Service Ac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laine-Cleveland-1884</a:t>
            </a: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Ma...Ma…Where’s my Pa?”</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t>
            </a:r>
            <a:r>
              <a:rPr b="0" lang="en-US" sz="3000" spc="-1" strike="noStrike">
                <a:solidFill>
                  <a:srgbClr val="000000"/>
                </a:solidFill>
                <a:latin typeface="Constantia"/>
              </a:rPr>
              <a:t>He’s gone to the White House…Ha...Ha…Ha…”</a:t>
            </a:r>
            <a:endParaRPr b="0" lang="en-US" sz="30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onstantia"/>
              </a:rPr>
              <a:t>Rum, Romanism and Rebellion”</a:t>
            </a:r>
            <a:endParaRPr b="0" lang="en-US" sz="32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Know-Nothingesque slanders about Irish Americans gave Cleveland New York</a:t>
            </a:r>
            <a:endParaRPr b="0" lang="en-US" sz="3000" spc="-1" strike="noStrike">
              <a:solidFill>
                <a:srgbClr val="000000"/>
              </a:solidFill>
              <a:latin typeface="Constantia"/>
            </a:endParaRPr>
          </a:p>
          <a:p>
            <a:pPr marL="272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coln’s Plan</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ly eligible voter or delegate if you took “ironclad” oath stating you never supported confederacy-would have made readmission impossible</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ngress outraged by Lincoln’ pocket veto-ok, ok…I’ll be tougher on the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 by Herman Melville</a:t>
            </a:r>
            <a:endParaRPr b="0" lang="en-US" sz="5000" spc="-1" strike="noStrike">
              <a:solidFill>
                <a:srgbClr val="04617b"/>
              </a:solidFill>
              <a:latin typeface="Calibri"/>
            </a:endParaRPr>
          </a:p>
        </p:txBody>
      </p:sp>
      <p:sp>
        <p:nvSpPr>
          <p:cNvPr id="206" name=""/>
          <p:cNvSpPr txBox="1"/>
          <p:nvPr/>
        </p:nvSpPr>
        <p:spPr>
          <a:xfrm>
            <a:off x="457200" y="1920960"/>
            <a:ext cx="4038480" cy="443376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GOOD Friday was the day</a:t>
            </a:r>
            <a:br>
              <a:rPr sz="2000"/>
            </a:br>
            <a:r>
              <a:rPr b="0" lang="en-US" sz="2000" spc="-1" strike="noStrike">
                <a:solidFill>
                  <a:srgbClr val="ff0000"/>
                </a:solidFill>
                <a:latin typeface="Constantia"/>
              </a:rPr>
              <a:t>Of the prodigy and crime,</a:t>
            </a:r>
            <a:br>
              <a:rPr sz="2000"/>
            </a:br>
            <a:r>
              <a:rPr b="0" lang="en-US" sz="2000" spc="-1" strike="noStrike">
                <a:solidFill>
                  <a:srgbClr val="ff0000"/>
                </a:solidFill>
                <a:latin typeface="Constantia"/>
              </a:rPr>
              <a:t>When they killed him in his pity,</a:t>
            </a:r>
            <a:br>
              <a:rPr sz="2000"/>
            </a:br>
            <a:r>
              <a:rPr b="0" lang="en-US" sz="2000" spc="-1" strike="noStrike">
                <a:solidFill>
                  <a:srgbClr val="ff0000"/>
                </a:solidFill>
                <a:latin typeface="Constantia"/>
              </a:rPr>
              <a:t>When they killed him in his prime</a:t>
            </a:r>
            <a:br>
              <a:rPr sz="2000"/>
            </a:br>
            <a:r>
              <a:rPr b="0" lang="en-US" sz="2000" spc="-1" strike="noStrike">
                <a:solidFill>
                  <a:srgbClr val="ff0000"/>
                </a:solidFill>
                <a:latin typeface="Constantia"/>
              </a:rPr>
              <a:t>Of clemency and calm--</a:t>
            </a:r>
            <a:br>
              <a:rPr sz="2000"/>
            </a:br>
            <a:r>
              <a:rPr b="0" lang="en-US" sz="2000" spc="-1" strike="noStrike">
                <a:solidFill>
                  <a:srgbClr val="ff0000"/>
                </a:solidFill>
                <a:latin typeface="Constantia"/>
              </a:rPr>
              <a:t>When with yearning he was filled</a:t>
            </a:r>
            <a:br>
              <a:rPr sz="2000"/>
            </a:br>
            <a:r>
              <a:rPr b="0" lang="en-US" sz="2000" spc="-1" strike="noStrike">
                <a:solidFill>
                  <a:srgbClr val="ff0000"/>
                </a:solidFill>
                <a:latin typeface="Constantia"/>
              </a:rPr>
              <a:t>To redeem the evil-willed,</a:t>
            </a:r>
            <a:br>
              <a:rPr sz="2000"/>
            </a:br>
            <a:r>
              <a:rPr b="0" lang="en-US" sz="2000" spc="-1" strike="noStrike">
                <a:solidFill>
                  <a:srgbClr val="ff0000"/>
                </a:solidFill>
                <a:latin typeface="Constantia"/>
              </a:rPr>
              <a:t>And, though conqueror, be kind;</a:t>
            </a:r>
            <a:br>
              <a:rPr sz="2000"/>
            </a:br>
            <a:r>
              <a:rPr b="0" lang="en-US" sz="2000" spc="-1" strike="noStrike">
                <a:solidFill>
                  <a:srgbClr val="ff0000"/>
                </a:solidFill>
                <a:latin typeface="Constantia"/>
              </a:rPr>
              <a:t>But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they killed him from behind. </a:t>
            </a:r>
            <a:endParaRPr b="0" lang="en-US" sz="2000" spc="-1" strike="noStrike">
              <a:solidFill>
                <a:srgbClr val="000000"/>
              </a:solidFill>
              <a:latin typeface="Constantia"/>
            </a:endParaRPr>
          </a:p>
        </p:txBody>
      </p:sp>
      <p:sp>
        <p:nvSpPr>
          <p:cNvPr id="207"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There is sobbing of the strong,</a:t>
            </a:r>
            <a:br>
              <a:rPr sz="2400"/>
            </a:br>
            <a:r>
              <a:rPr b="0" lang="en-US" sz="2400" spc="-1" strike="noStrike">
                <a:solidFill>
                  <a:srgbClr val="ff0000"/>
                </a:solidFill>
                <a:latin typeface="Constantia"/>
              </a:rPr>
              <a:t>And a pall upon the land;</a:t>
            </a:r>
            <a:br>
              <a:rPr sz="2400"/>
            </a:br>
            <a:r>
              <a:rPr b="0" lang="en-US" sz="2400" spc="-1" strike="noStrike">
                <a:solidFill>
                  <a:srgbClr val="ff0000"/>
                </a:solidFill>
                <a:latin typeface="Constantia"/>
              </a:rPr>
              <a:t>But the People in their weeping</a:t>
            </a:r>
            <a:br>
              <a:rPr sz="2400"/>
            </a:br>
            <a:r>
              <a:rPr b="0" lang="en-US" sz="2400" spc="-1" strike="noStrike">
                <a:solidFill>
                  <a:srgbClr val="ff0000"/>
                </a:solidFill>
                <a:latin typeface="Constantia"/>
              </a:rPr>
              <a:t>Bare the iron hand:</a:t>
            </a:r>
            <a:br>
              <a:rPr sz="2400"/>
            </a:br>
            <a:r>
              <a:rPr b="0" lang="en-US" sz="2400" spc="-1" strike="noStrike">
                <a:solidFill>
                  <a:srgbClr val="ff0000"/>
                </a:solidFill>
                <a:latin typeface="Constantia"/>
              </a:rPr>
              <a:t>Beware the People weeping</a:t>
            </a:r>
            <a:br>
              <a:rPr sz="2400"/>
            </a:br>
            <a:r>
              <a:rPr b="0" lang="en-US" sz="24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The Martyr</a:t>
            </a:r>
            <a:endParaRPr b="0" lang="en-US" sz="5000" spc="-1" strike="noStrike">
              <a:solidFill>
                <a:srgbClr val="04617b"/>
              </a:solidFill>
              <a:latin typeface="Calibri"/>
            </a:endParaRPr>
          </a:p>
        </p:txBody>
      </p:sp>
      <p:sp>
        <p:nvSpPr>
          <p:cNvPr id="209" name=""/>
          <p:cNvSpPr txBox="1"/>
          <p:nvPr/>
        </p:nvSpPr>
        <p:spPr>
          <a:xfrm>
            <a:off x="457200" y="1920960"/>
            <a:ext cx="4038480" cy="4433760"/>
          </a:xfrm>
          <a:prstGeom prst="rect">
            <a:avLst/>
          </a:prstGeom>
          <a:noFill/>
          <a:ln w="0">
            <a:noFill/>
          </a:ln>
        </p:spPr>
        <p:txBody>
          <a:bodyPr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He lieth in his blood--</a:t>
            </a:r>
            <a:br>
              <a:rPr sz="2000"/>
            </a:br>
            <a:r>
              <a:rPr b="0" lang="en-US" sz="2000" spc="-1" strike="noStrike">
                <a:solidFill>
                  <a:srgbClr val="ff0000"/>
                </a:solidFill>
                <a:latin typeface="Constantia"/>
              </a:rPr>
              <a:t>The father in his face;</a:t>
            </a:r>
            <a:br>
              <a:rPr sz="2000"/>
            </a:br>
            <a:r>
              <a:rPr b="0" lang="en-US" sz="2000" spc="-1" strike="noStrike">
                <a:solidFill>
                  <a:srgbClr val="ff0000"/>
                </a:solidFill>
                <a:latin typeface="Constantia"/>
              </a:rPr>
              <a:t>They have killed him, the Forgiver--</a:t>
            </a:r>
            <a:br>
              <a:rPr sz="2000"/>
            </a:br>
            <a:r>
              <a:rPr b="0" lang="en-US" sz="2000" spc="-1" strike="noStrike">
                <a:solidFill>
                  <a:srgbClr val="ff0000"/>
                </a:solidFill>
                <a:latin typeface="Constantia"/>
              </a:rPr>
              <a:t>The Avenger takes his place,</a:t>
            </a:r>
            <a:br>
              <a:rPr sz="2000"/>
            </a:br>
            <a:r>
              <a:rPr b="0" lang="en-US" sz="2000" spc="-1" strike="noStrike">
                <a:solidFill>
                  <a:srgbClr val="ff0000"/>
                </a:solidFill>
                <a:latin typeface="Constantia"/>
              </a:rPr>
              <a:t>The Avenger wisely stern,</a:t>
            </a:r>
            <a:br>
              <a:rPr sz="2000"/>
            </a:br>
            <a:r>
              <a:rPr b="0" lang="en-US" sz="2000" spc="-1" strike="noStrike">
                <a:solidFill>
                  <a:srgbClr val="ff0000"/>
                </a:solidFill>
                <a:latin typeface="Constantia"/>
              </a:rPr>
              <a:t>Who in righteousness shall do</a:t>
            </a:r>
            <a:br>
              <a:rPr sz="2000"/>
            </a:br>
            <a:r>
              <a:rPr b="0" lang="en-US" sz="2000" spc="-1" strike="noStrike">
                <a:solidFill>
                  <a:srgbClr val="ff0000"/>
                </a:solidFill>
                <a:latin typeface="Constantia"/>
              </a:rPr>
              <a:t>What the heavens call him to,</a:t>
            </a:r>
            <a:br>
              <a:rPr sz="2000"/>
            </a:br>
            <a:r>
              <a:rPr b="0" lang="en-US" sz="2000" spc="-1" strike="noStrike">
                <a:solidFill>
                  <a:srgbClr val="ff0000"/>
                </a:solidFill>
                <a:latin typeface="Constantia"/>
              </a:rPr>
              <a:t>And the parricides remand;</a:t>
            </a:r>
            <a:br>
              <a:rPr sz="2000"/>
            </a:br>
            <a:r>
              <a:rPr b="0" lang="en-US" sz="2000" spc="-1" strike="noStrike">
                <a:solidFill>
                  <a:srgbClr val="ff0000"/>
                </a:solidFill>
                <a:latin typeface="Constantia"/>
              </a:rPr>
              <a:t>For they killed him in his kindness,</a:t>
            </a:r>
            <a:br>
              <a:rPr sz="2000"/>
            </a:br>
            <a:r>
              <a:rPr b="0" lang="en-US" sz="2000" spc="-1" strike="noStrike">
                <a:solidFill>
                  <a:srgbClr val="ff0000"/>
                </a:solidFill>
                <a:latin typeface="Constantia"/>
              </a:rPr>
              <a:t>In their madness and their blindness,</a:t>
            </a:r>
            <a:br>
              <a:rPr sz="2000"/>
            </a:br>
            <a:r>
              <a:rPr b="0" lang="en-US" sz="2000" spc="-1" strike="noStrike">
                <a:solidFill>
                  <a:srgbClr val="ff0000"/>
                </a:solidFill>
                <a:latin typeface="Constantia"/>
              </a:rPr>
              <a:t>And his blood is on their hand.</a:t>
            </a:r>
            <a:r>
              <a:rPr b="0"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210" name=""/>
          <p:cNvSpPr txBox="1"/>
          <p:nvPr/>
        </p:nvSpPr>
        <p:spPr>
          <a:xfrm>
            <a:off x="4648320" y="1920960"/>
            <a:ext cx="4038480" cy="443376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re is sobbing of the strong,</a:t>
            </a:r>
            <a:br>
              <a:rPr sz="2600"/>
            </a:br>
            <a:r>
              <a:rPr b="0" lang="en-US" sz="2600" spc="-1" strike="noStrike">
                <a:solidFill>
                  <a:srgbClr val="ff0000"/>
                </a:solidFill>
                <a:latin typeface="Constantia"/>
              </a:rPr>
              <a:t>And a pall upon the land;</a:t>
            </a:r>
            <a:br>
              <a:rPr sz="2600"/>
            </a:br>
            <a:r>
              <a:rPr b="0" lang="en-US" sz="2600" spc="-1" strike="noStrike">
                <a:solidFill>
                  <a:srgbClr val="ff0000"/>
                </a:solidFill>
                <a:latin typeface="Constantia"/>
              </a:rPr>
              <a:t>But the People in their weeping</a:t>
            </a:r>
            <a:br>
              <a:rPr sz="2600"/>
            </a:br>
            <a:r>
              <a:rPr b="0" lang="en-US" sz="2600" spc="-1" strike="noStrike">
                <a:solidFill>
                  <a:srgbClr val="ff0000"/>
                </a:solidFill>
                <a:latin typeface="Constantia"/>
              </a:rPr>
              <a:t>Bare the iron hand:</a:t>
            </a:r>
            <a:br>
              <a:rPr sz="2600"/>
            </a:br>
            <a:r>
              <a:rPr b="0" lang="en-US" sz="2600" spc="-1" strike="noStrike">
                <a:solidFill>
                  <a:srgbClr val="ff0000"/>
                </a:solidFill>
                <a:latin typeface="Constantia"/>
              </a:rPr>
              <a:t>Beware the People weeping</a:t>
            </a:r>
            <a:br>
              <a:rPr sz="2600"/>
            </a:br>
            <a:r>
              <a:rPr b="0" lang="en-US" sz="2600" spc="-1" strike="noStrike">
                <a:solidFill>
                  <a:srgbClr val="ff0000"/>
                </a:solidFill>
                <a:latin typeface="Constantia"/>
              </a:rPr>
              <a:t>When they bare the iron hand.</a:t>
            </a:r>
            <a:r>
              <a:rPr b="0" lang="en-US" sz="2000" spc="-1" strike="noStrike">
                <a:solidFill>
                  <a:srgbClr val="ff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Johnson’s Plan</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eak Planter’s power</a:t>
            </a:r>
            <a:endParaRPr b="0" lang="en-US" sz="24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f-educated, hated rich southerners</a:t>
            </a:r>
            <a:endParaRPr b="0" lang="en-US" sz="2200" spc="-1" strike="noStrike">
              <a:solidFill>
                <a:srgbClr val="000000"/>
              </a:solidFill>
              <a:latin typeface="Constantia"/>
            </a:endParaRPr>
          </a:p>
          <a:p>
            <a:pPr lvl="1" marL="713160" indent="-274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ohnson was a poor southerner (Tailor)</a:t>
            </a:r>
            <a:endParaRPr b="0" lang="en-US" sz="22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pledge allegiance, pardon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pt 13th Amendment</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clude high ranking confederates and disqualified planters who owned land over $20,000</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don 13,000 confederates liberally-Wrote to him personally</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White men should still managed south”-Poor whites in control</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7 more states, all but Texas, would have been excepted</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urn to antebellum south, “Black cod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gressional Reconstruction</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nted to go further than both plans suggest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see Eye to Eye with Presidents’ pla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ift power from Executive to Congression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dn’t like Johnson Politically-He Was a DEMOCR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ion of 1866-Mid term-Radical Republicans got more pow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ivil rights Act of 1866</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luded in the Civil Rights Act were the rights to: make contracts, sue, bear witness in court and own private property</a:t>
            </a:r>
            <a:endParaRPr b="0" lang="en-US" sz="24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itizenship and forbade discrimination laws “black cod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6:34:12Z</dcterms:created>
  <dc:creator>tbabcock</dc:creator>
  <dc:description/>
  <dc:language>en-US</dc:language>
  <cp:lastModifiedBy>tbabcock</cp:lastModifiedBy>
  <dcterms:modified xsi:type="dcterms:W3CDTF">2010-02-01T15:22:29Z</dcterms:modified>
  <cp:revision>56</cp:revision>
  <dc:subject/>
  <dc:title>Political Cartoons</dc:title>
</cp:coreProperties>
</file>