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49C-8FDA-4674-87F1-6F33344F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5FA-B5E2-4EE0-BB2B-3F7430F0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529-6DDF-45C3-808A-E8A70D26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C35-7DAC-4FBC-A7A3-4B0B0461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E82-D48C-411E-B079-0950BC8D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0AE-648C-4238-8BC4-4A60F2C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E86-2846-4388-8480-7B0D602C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32E-1B49-49AD-8E85-990E3C5C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9C9-7816-44D5-83B9-5FF570B0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FEC-908E-4FAD-9943-F8E6CF7C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3D5-0883-452B-9761-47A27112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8C3-77B9-49C1-837F-53E148AD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37CE-6508-4B23-836E-F20508A46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4440" y="20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_x000c_vc006806.jpg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4197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d2015"/>
                </a:solidFill>
                <a:latin typeface="Papyrus"/>
              </a:rPr>
              <a:t> </a:t>
            </a:r>
            <a:r>
              <a:rPr b="1" lang="en-US" sz="8000" spc="-1" strike="noStrike">
                <a:solidFill>
                  <a:srgbClr val="2d2015"/>
                </a:solidFill>
                <a:latin typeface="Papyrus"/>
              </a:rPr>
              <a:t>The Great Awaken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9760"/>
            <a:ext cx="9524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. Elements of the Great Awa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. Enthusiasm--emotional manifestations(weeping, fainting, physical movem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. Itinerancy--visiting and preaching in various areas without inv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C. Challenge to religious authorities and divisions within denominations into "new light" and "old light" f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. Democratic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1) insisted that all should have the religious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2) Stirred impulse towards independence among col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3) Broke down strong denominational 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. Elements of the Great Awa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178760" y="2666880"/>
            <a:ext cx="1965240" cy="27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. Revival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. Theodore Frelinghuysen of New Jersey--he preached that Dutch merchants should not take their religion for granted (preserving Dutch Reformed tradition in English colon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. Gilbert Tennent--Presbyterian preacher in the middle colo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. Revival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C. Jonathan Edwards--New England preacher of great intellect and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D. George Whitefield--English preacher who visited most of the colonies, stirring residents with emotional religious appe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&#10;f0205s.jpg  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6300720" y="3200400"/>
            <a:ext cx="2843280" cy="365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_x000c_vc006440.jpg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1143000" y="2971800"/>
            <a:ext cx="698652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I. Results of the Great Awake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A. Individual revival--rejection of cold rationalism of Puritanism and Anglicanism and more reliance on the "heart" rather than the "head.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B. Creation of new colleges (sometimes called log colleges) to train "new light" ministers--Princeton, Brown, Dartmou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C. Sharpening of the differences between those who defined religion as a rational process and those who focus on experience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I. Results of the Great Awake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. Development of revivalism tradition in American religion. Future outbreak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1) Second Great Awakening in first half of 19th century--camp meetings and frontier revivals featuring emotional appeals and Arminian the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2) Charles G. Finney and Dwight Moody--19th century urban revivalism with campaigns in many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3) Billy Sunday, Billy Graham and mass meetings--20th century revivalism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4:35:02Z</dcterms:created>
  <dc:creator>Roberta Shapiro</dc:creator>
  <dc:description/>
  <dc:language>en-US</dc:language>
  <cp:lastModifiedBy>tbabcock</cp:lastModifiedBy>
  <dcterms:modified xsi:type="dcterms:W3CDTF">2009-09-23T13:53:23Z</dcterms:modified>
  <cp:revision>2</cp:revision>
  <dc:subject/>
  <dc:title> The Great Awakening  </dc:title>
</cp:coreProperties>
</file>