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1B6-A6A6-4C22-A92A-048094C3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47C-A4DF-4F71-91B6-6E6A3A85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EEF-9F4B-44BC-8060-74892678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703-8236-478A-A6DE-269B3F0D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9CA-E975-44DE-A56B-8D6A7005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023-6FB6-4776-904F-03ADC8F8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3A8-00C5-4A56-828A-8352D819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45B-4E47-4684-BDCE-F6267C9B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A31-617D-4A17-A1E7-1C8C4764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529-2ED9-49E6-8818-29272E00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E23-8198-488A-A31E-986E1A1E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762-33A3-49BA-856E-F55ECD3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997C-DC5A-42A9-A9CF-715B22406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4440" y="20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_x000c_vc006806.jpg                                                   000B9BC6_x000c_Macintosh HD                   B74677AA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4197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d2015"/>
                </a:solidFill>
                <a:latin typeface="Papyrus"/>
              </a:rPr>
              <a:t> </a:t>
            </a:r>
            <a:r>
              <a:rPr b="1" lang="en-US" sz="8000" spc="-1" strike="noStrike">
                <a:solidFill>
                  <a:srgbClr val="2d2015"/>
                </a:solidFill>
                <a:latin typeface="Papyrus"/>
              </a:rPr>
              <a:t>The Great Awaken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9760"/>
            <a:ext cx="9524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. Elements of the Great Awa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A. Enthusiasm--emotional manifestations(weeping, fainting, physical moveme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B. Itinerancy--visiting and preaching in various areas without inv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C. Challenge to religious authorities and divisions within denominations into "new light" and "old light" f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. Democratic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1) insisted that all should have the religious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2) Stirred impulse towards independence among col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3) Broke down strong denominational 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. Elements of the Great Awa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178760" y="2666880"/>
            <a:ext cx="1965240" cy="27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. Revival Lead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A. Theodore Frelinghuysen of New Jersey--he preached that Dutch merchants should not take their religion for granted (preserving Dutch Reformed tradition in English colon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B. Gilbert Tennent--Presbyterian preacher in the middle colo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. Revival Lead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5638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C. Jonathan Edwards--New England preacher of great intellect and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D. George Whitefield--English preacher who visited most of the colonies, stirring residents with emotional religious appe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&#10;f0205s.jpg                                                     000B9BC6_x000c_Macintosh HD                   B74677AA:"/>
          <p:cNvPicPr/>
          <p:nvPr/>
        </p:nvPicPr>
        <p:blipFill>
          <a:blip r:embed="rId1"/>
          <a:stretch/>
        </p:blipFill>
        <p:spPr>
          <a:xfrm>
            <a:off x="6300720" y="3200400"/>
            <a:ext cx="2843280" cy="365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_x000c_vc006440.jpg                                                   000B9BC6_x000c_Macintosh HD                   B74677AA:"/>
          <p:cNvPicPr/>
          <p:nvPr/>
        </p:nvPicPr>
        <p:blipFill>
          <a:blip r:embed="rId1"/>
          <a:stretch/>
        </p:blipFill>
        <p:spPr>
          <a:xfrm>
            <a:off x="1143000" y="2971800"/>
            <a:ext cx="698652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I. Results of the Great Awaken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Papyrus"/>
              </a:rPr>
              <a:t>A. Individual revival--rejection of cold rationalism of Puritanism and Anglicanism and more reliance on the "heart" rather than the "head.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Papyrus"/>
              </a:rPr>
              <a:t>B. Creation of new colleges (sometimes called log colleges) to train "new light" ministers--Princeton, Brown, Dartmou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Papyrus"/>
              </a:rPr>
              <a:t>C. Sharpening of the differences between those who defined religion as a rational process and those who focus on experience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I. Results of the Great Awaken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. Development of revivalism tradition in American religion. Future outbreak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1) Second Great Awakening in first half of 19th century--camp meetings and frontier revivals featuring emotional appeals and Arminian the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2) Charles G. Finney and Dwight Moody--19th century urban revivalism with campaigns in many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3) Billy Sunday, Billy Graham and mass meetings--20th century revivalism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4:35:02Z</dcterms:created>
  <dc:creator>Roberta Shapiro</dc:creator>
  <dc:description/>
  <dc:language>en-US</dc:language>
  <cp:lastModifiedBy>tbabcock</cp:lastModifiedBy>
  <dcterms:modified xsi:type="dcterms:W3CDTF">2009-09-23T13:53:23Z</dcterms:modified>
  <cp:revision>2</cp:revision>
  <dc:subject/>
  <dc:title> The Great Awakening  </dc:title>
</cp:coreProperties>
</file>