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412-CAEE-44D8-ABF4-A14D0736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6BC-51B7-4C42-9975-453DB5F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D95-D143-43A4-A982-764C8E7C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7D8-9F9B-4830-9B6A-C768F0F3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77A-683C-48D8-834C-A7E71AC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B96-1C2C-4B72-A9F3-6152589C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4B5-EA47-481D-A8A0-F073DEF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ACD-3B79-4D0B-9E21-4DEA640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9EF-371B-4F7E-9E82-4E94534E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1A9-EC57-4F19-9C3C-FFEEAAB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02D-88C6-4BDC-9CF4-0925C33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2AF-099F-419E-95A4-7409A12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A25C-C93C-47EE-BA81-211FD0358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4440" y="20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_x000c_vc006806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 </a:t>
            </a:r>
            <a:r>
              <a:rPr b="1" lang="en-US" sz="8000" spc="-1" strike="noStrike">
                <a:solidFill>
                  <a:srgbClr val="2d2015"/>
                </a:solidFill>
                <a:latin typeface="Papyrus"/>
              </a:rPr>
              <a:t>The Great Awaken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9760"/>
            <a:ext cx="952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Enthusiasm--emotional manifestations(weeping, fainting, physical movem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Itinerancy--visiting and preaching in various areas without inv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C. Challenge to religious authorities and divisions within denominations into "new light" and "old light" f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. Democratic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1) insisted that all should have the religious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2) Stirred impulse towards independence among col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roke down strong denominational 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. Elements of the Great Awa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178760" y="2666880"/>
            <a:ext cx="1965240" cy="27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. Theodore Frelinghuysen of New Jersey--he preached that Dutch merchants should not take their religion for granted (preserving Dutch Reformed tradition in English colon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. Gilbert Tennent--Presbyterian preacher in the middle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. Revival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C. Jonathan Edwards--New England preacher of great intellect and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D. George Whitefield--English preacher who visited most of the colonies, stirring residents with emotional religious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&#10;f0205s.jpg  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6300720" y="3200400"/>
            <a:ext cx="2843280" cy="365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_x000c_vc006440.jpg                                                   000B9BC6_x000c_Macintosh HD                   B74677AA:"/>
          <p:cNvPicPr/>
          <p:nvPr/>
        </p:nvPicPr>
        <p:blipFill>
          <a:blip r:embed="rId1"/>
          <a:stretch/>
        </p:blipFill>
        <p:spPr>
          <a:xfrm>
            <a:off x="1143000" y="2971800"/>
            <a:ext cx="698652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A. Individual revival--rejection of cold rationalism of Puritanism and Anglicanism and more reliance on the "heart" rather than the "head.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B. Creation of new colleges (sometimes called log colleges) to train "new light" ministers--Princeton, Brown, Dartmou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Papyrus"/>
              </a:rPr>
              <a:t>C. Sharpening of the differences between those who defined religion as a rational process and those who focus on experience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III. Results of the Great Awaken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. Development of revivalism tradition in American religion. Future outbrea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1) Second Great Awakening in first half of 19th century--camp meetings and frontier revivals featuring emotional appeals and Arminian the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2) Charles G. Finney and Dwight Moody--19th century urban revivalism with campaigns in many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3) Billy Sunday, Billy Graham and mass meetings--20th century revivalism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5:02Z</dcterms:created>
  <dc:creator>Roberta Shapiro</dc:creator>
  <dc:description/>
  <dc:language>en-US</dc:language>
  <cp:lastModifiedBy>tbabcock</cp:lastModifiedBy>
  <dcterms:modified xsi:type="dcterms:W3CDTF">2009-09-23T13:53:23Z</dcterms:modified>
  <cp:revision>2</cp:revision>
  <dc:subject/>
  <dc:title> The Great Awakening  </dc:title>
</cp:coreProperties>
</file>